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213877"/>
        <c:axId val="48999046"/>
      </c:barChart>
      <c:catAx>
        <c:axId val="252138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99046"/>
        <c:crosses val="autoZero"/>
        <c:auto val="1"/>
        <c:lblAlgn val="ctr"/>
        <c:lblOffset val="100"/>
        <c:noMultiLvlLbl val="0"/>
      </c:catAx>
      <c:valAx>
        <c:axId val="489990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2138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0EF6-19A4-4E23-AB2C-C924228C8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96C3-7A6C-4939-B8B8-F2D36787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6BF5-385E-471F-910E-447F3FAB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8A6A-43C0-4C5A-BB7E-6D6012980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8CE2-9942-40B1-AE91-610D1DAD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CAA1-8E37-44C6-9F3C-D82E282E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4EC1-B5E3-4373-8401-E7CE3A0C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5E87-D5B2-4976-B4F2-4C996245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2E94-B4D6-4952-83D1-6FC824F5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49D0-0C70-433A-BC81-EB5F3AB0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020D-2AE1-435D-9C11-D6CD7A40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D293-0B43-4310-944C-D8CCEE85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AFD3E-B3BC-44FA-902A-4EB2A9F6B9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