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301"/>
        <c:axId val="74729622"/>
      </c:barChart>
      <c:catAx>
        <c:axId val="910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29622"/>
        <c:crosses val="autoZero"/>
        <c:auto val="1"/>
        <c:lblAlgn val="ctr"/>
        <c:lblOffset val="100"/>
        <c:noMultiLvlLbl val="0"/>
      </c:catAx>
      <c:valAx>
        <c:axId val="74729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628-C00C-4C53-BA6C-A154F931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2EF-3B43-4D93-87CE-2E85633D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FB2-C83A-444F-93DD-5E0915C2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3E6-0648-4B9A-9617-679C6072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B2E-6A51-4B24-ACF2-0AD498D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CF5-AF57-4F17-9314-5707CA4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072-53D2-4541-AFC9-131FA5E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930-B52C-4094-A244-F0B7B92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942-D7B1-4C14-8F7A-36D32D5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B54-40F0-4F97-B45F-0C38DCEF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723-9EA7-4DBB-8F49-19E87C7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5F8-1D2B-496F-9580-A4F23EC6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3ACAB-9401-4EE2-8F7A-80BABA9DF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