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13862"/>
        <c:axId val="73109226"/>
      </c:barChart>
      <c:catAx>
        <c:axId val="87213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09226"/>
        <c:crosses val="autoZero"/>
        <c:auto val="1"/>
        <c:lblAlgn val="ctr"/>
        <c:lblOffset val="100"/>
        <c:noMultiLvlLbl val="0"/>
      </c:catAx>
      <c:valAx>
        <c:axId val="73109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13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319-9E95-4C6A-8DC8-FF435031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6ED-09DE-4BE6-8DC7-868CE6B3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DD9-CF9D-4920-8692-64A5C218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F82-B517-4CE4-ACF6-EAC8E97B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D9A-1D5B-4963-BD29-6D2506B7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B5A-F584-4A77-BA9C-6D0B155F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D9B-03C1-4EE3-A1CF-8BD9A815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676-B1F3-451D-969C-2EF9D621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B39-EBAD-4DB5-B05F-6B61AD6D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347-306C-41B2-8F9E-8B8FB860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E5E-56A5-4534-8577-44005ADE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691-1E5D-4972-A719-1708EAD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E835A-D506-4916-8024-4371F015B0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