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6AA9-42A4-4A5C-87CA-63FA6C4E4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84B4-16AE-452F-AF6E-D5588F39F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AB16-07E1-46BF-B053-0D0F600BF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4AF6-CCD9-43B7-A795-09F06497A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18F2-6031-4473-9935-965379C67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5E35-B885-4A86-8BD3-C9199ACA9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AEBF-C90E-408D-B6FA-1D0211473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F58A-41CD-495A-8FC5-35509E84A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6F71-3255-41E3-95A0-927BE63B2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5E2B-ED4B-4132-90D8-F439C53D4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9C90-F704-49C6-9414-91FA2E68B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52E6-7CEA-4390-8C4D-7EA0AFE1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EBAFB-928D-41AD-847E-9D87782238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352680" y="1600200"/>
            <a:ext cx="2387880" cy="190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58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old.computer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2362320" cy="2306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 rot="10800000">
            <a:off x="4190760" y="3809880"/>
            <a:ext cx="609480" cy="60984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c2" descr=""/>
          <p:cNvPicPr/>
          <p:nvPr/>
        </p:nvPicPr>
        <p:blipFill>
          <a:blip r:embed="rId2"/>
          <a:stretch/>
        </p:blipFill>
        <p:spPr>
          <a:xfrm>
            <a:off x="6095880" y="6094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57200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352680" y="1600200"/>
            <a:ext cx="2387880" cy="350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80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52680" y="3733920"/>
            <a:ext cx="2362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tech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&lt;details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2819520"/>
            <a:ext cx="76212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05720" y="35812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172200" y="1600200"/>
            <a:ext cx="533520" cy="3505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mainframe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2000160" cy="22352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 rot="10800000">
            <a:off x="3276360" y="5333760"/>
            <a:ext cx="609480" cy="60948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05320" y="3505320"/>
            <a:ext cx="205740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6858000" y="304920"/>
            <a:ext cx="1447920" cy="14000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219320" y="487692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29T14:09:38Z</dcterms:modified>
  <cp:revision>39</cp:revision>
  <dc:subject/>
  <dc:title>PowerPoint Presentation</dc:title>
</cp:coreProperties>
</file>