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17392"/>
        <c:axId val="22835523"/>
      </c:barChart>
      <c:catAx>
        <c:axId val="93517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35523"/>
        <c:crosses val="autoZero"/>
        <c:auto val="1"/>
        <c:lblAlgn val="ctr"/>
        <c:lblOffset val="100"/>
        <c:noMultiLvlLbl val="0"/>
      </c:catAx>
      <c:valAx>
        <c:axId val="22835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17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935-E1A8-47E7-9B09-74A05663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132-EA75-4B23-ADBB-5B7AFCFD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DD5-95D1-4DE8-9C5B-1BD6F481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158-E617-4A10-87CE-63B440D5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BE8-8E45-49EF-B5C1-A9B7AD6A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76A-0E19-450D-928E-E2FE2F8D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362-0E26-46BF-A68A-AE3A929E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A42-725A-4CEF-977A-B0A3D124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134-4D8C-49AE-B817-57F8B90A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A3C-00A1-435F-A9EE-F3F530F1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37D-D0F0-4238-8633-CBD1325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D8C-A461-4A2D-97AA-7EA5AEB5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A09A2-9FEF-4C1B-84B9-DDEB3EF6E4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