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89810"/>
        <c:axId val="71347949"/>
      </c:barChart>
      <c:catAx>
        <c:axId val="11189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47949"/>
        <c:crosses val="autoZero"/>
        <c:auto val="1"/>
        <c:lblAlgn val="ctr"/>
        <c:lblOffset val="100"/>
        <c:noMultiLvlLbl val="0"/>
      </c:catAx>
      <c:valAx>
        <c:axId val="71347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89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476-12DC-4492-A0C8-98A8655C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FA7-CB90-455D-A206-AD4D6890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25E-FAE4-4CB8-A5E2-42A201A2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094-E49C-486F-9711-D771FE00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65D-2C41-458D-9435-AE736E23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D1C-E4C6-4B6E-9C27-7D3C1897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880-0F96-47B0-A9AD-277DF598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D10-3448-4084-8316-1A6FFBCB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276-C452-4527-AE6F-2018BD09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79C-DD6C-4382-8416-FDE40C3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329-7BE3-46AC-AF9F-17CBD1EE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D9D-7DE2-4872-9103-2DA26010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DDDD5-7BF7-480F-86B9-99659E7EAB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