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1C69-3805-4962-84AC-DE69CEE6C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F75B-19CB-4D9F-9E64-70297AF15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E529-8AC4-42ED-AE81-C0FF0A38B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894B-2E1A-4DE9-BA0F-DBA7C55BE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C659-63C9-43A3-9068-DEA6F4564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8AA7-53D8-4B5E-9D44-2A49CDE9E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9EE3-2481-4C93-8A76-8E2EEB5F8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F6F2-E466-4481-8EE4-8759CC300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1C8F-5B4E-4788-AAC7-F8C40A3C7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2CA5-63B9-4238-A91C-3AC57A7F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F6CC-F487-427B-9385-D9E4CEA6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E97C-25E9-46AD-860B-34EDA3E1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61334-E8C4-4A3A-8782-9ECFF45CF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152280"/>
            <a:ext cx="12956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I/C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1752480"/>
            <a:ext cx="213372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248520" y="1752480"/>
            <a:ext cx="2133360" cy="13716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81280" y="4343400"/>
            <a:ext cx="213372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D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4572000"/>
            <a:ext cx="12956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4800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52480" y="44197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5" idx="2"/>
            <a:endCxn id="44" idx="2"/>
          </p:cNvCxnSpPr>
          <p:nvPr/>
        </p:nvCxnSpPr>
        <p:spPr>
          <a:xfrm flipH="1" rot="16200000">
            <a:off x="2724120" y="3790800"/>
            <a:ext cx="228960" cy="3619800"/>
          </a:xfrm>
          <a:prstGeom prst="bentConnector3">
            <a:avLst>
              <a:gd name="adj1" fmla="val 2012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1373760" y="5943600"/>
            <a:ext cx="26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topoRef*, 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19051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66480" y="1523880"/>
            <a:ext cx="18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load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181480" y="2438280"/>
            <a:ext cx="1067040" cy="19051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7949000">
            <a:off x="4384440" y="300636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wnload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endCxn id="55" idx="3"/>
          </p:cNvCxnSpPr>
          <p:nvPr/>
        </p:nvCxnSpPr>
        <p:spPr>
          <a:xfrm flipH="1" flipV="1" rot="5400000">
            <a:off x="5886360" y="3485880"/>
            <a:ext cx="1219320" cy="1562760"/>
          </a:xfrm>
          <a:prstGeom prst="bentConnector3">
            <a:avLst>
              <a:gd name="adj1" fmla="val 404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5715000" y="44197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44" idx="3"/>
            <a:endCxn id="55" idx="4"/>
          </p:cNvCxnSpPr>
          <p:nvPr/>
        </p:nvCxnSpPr>
        <p:spPr>
          <a:xfrm flipV="1">
            <a:off x="5715000" y="3238560"/>
            <a:ext cx="1981440" cy="1791000"/>
          </a:xfrm>
          <a:prstGeom prst="bentConnector3">
            <a:avLst>
              <a:gd name="adj1" fmla="val 111720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021720" y="5105520"/>
            <a:ext cx="25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topoRef, 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1066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743200" y="1066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89280" y="990720"/>
            <a:ext cx="985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putFil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topoRef*,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[content]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18440" y="1143000"/>
            <a:ext cx="99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getFil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topoRef*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0" y="2819520"/>
            <a:ext cx="838080" cy="838080"/>
          </a:xfrm>
          <a:prstGeom prst="can">
            <a:avLst>
              <a:gd name="adj" fmla="val 25000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3200040" y="3123720"/>
            <a:ext cx="10666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200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3200400"/>
            <a:ext cx="9144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12200" y="3276720"/>
            <a:ext cx="120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poRef*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1752480"/>
            <a:ext cx="1219320" cy="30492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48520" y="1752480"/>
            <a:ext cx="30456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1752480"/>
            <a:ext cx="30492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4343400"/>
            <a:ext cx="99072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5791320"/>
            <a:ext cx="1143000" cy="838080"/>
          </a:xfrm>
          <a:prstGeom prst="can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o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2521800">
            <a:off x="5714640" y="5715000"/>
            <a:ext cx="533520" cy="304920"/>
          </a:xfrm>
          <a:prstGeom prst="leftRightArrow">
            <a:avLst>
              <a:gd name="adj1" fmla="val 50000"/>
              <a:gd name="adj2" fmla="val 348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TopologyRefer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n extremely important facet to the entire JBN Admin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webdav clients get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the higher levels talk to the virtual file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server refers to multipe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two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(refers to 1 or more no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(refers to 1 and only 1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ype looks the same syntatically; semantically they are different (one has wildcards and/or may refer to multiple nodes; the other only refers to 1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ology 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{rtype};domain={s};platform={s}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Name={s};{dist-ext};{rtype-ext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rtype} := [file|jmx|snmp|???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s} := any string, possibly a wild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dist-ext} := distribution type extensions in the form of [;{s1}={s2}] where {s1} is the name string and {s2} is the value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rtype-ext} := resource type extensions in the form of [;{s1}={s2}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Name infers a distribution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si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ology reference extensions allow you to further define the thing being referenced using additional qual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rtype-ext} for “file” types can be “;path=/a.tx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dist-ext} for distribution type of “jboss401” can be “;server=all;application=slide.w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do everything we want without {dist-ext}, it’ll just be “less ni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Topology 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prod;platform=alice;distributionName=myjboss;path=/conf/jboss-servi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*;platform=*;distributionName=myapache;path=/conf/http.con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*;platform=alice,bob;distributionName=myjboss;path=/conf/jboss-servi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jmx;domain=*;platform=*;distributionName=myjboss;objectName=x:nm=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eric Top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52280" y="1295280"/>
            <a:ext cx="3276720" cy="1828800"/>
            <a:chOff x="152280" y="1295280"/>
            <a:chExt cx="3276720" cy="1828800"/>
          </a:xfrm>
        </p:grpSpPr>
        <p:sp>
          <p:nvSpPr>
            <p:cNvPr id="83" name=""/>
            <p:cNvSpPr/>
            <p:nvPr/>
          </p:nvSpPr>
          <p:spPr>
            <a:xfrm>
              <a:off x="152280" y="1295280"/>
              <a:ext cx="3276720" cy="18288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ource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9480" y="1599840"/>
              <a:ext cx="1219320" cy="4572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atfor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1828800" y="1599840"/>
              <a:ext cx="1294920" cy="533520"/>
              <a:chOff x="1828800" y="1599840"/>
              <a:chExt cx="1294920" cy="533520"/>
            </a:xfrm>
          </p:grpSpPr>
          <p:sp>
            <p:nvSpPr>
              <p:cNvPr id="86" name=""/>
              <p:cNvSpPr/>
              <p:nvPr/>
            </p:nvSpPr>
            <p:spPr>
              <a:xfrm>
                <a:off x="1828800" y="1599840"/>
                <a:ext cx="1218960" cy="457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904760" y="1676160"/>
                <a:ext cx="1218960" cy="457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609480" y="2057040"/>
              <a:ext cx="1219320" cy="4572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048120" y="3048120"/>
            <a:ext cx="5790960" cy="33526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29000" y="3581280"/>
            <a:ext cx="5181480" cy="259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4191120"/>
            <a:ext cx="144756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86400" y="4191120"/>
            <a:ext cx="14479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5029200"/>
            <a:ext cx="144756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1371600"/>
            <a:ext cx="4191120" cy="14479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52880" y="1676520"/>
            <a:ext cx="3581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248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91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10280" y="4191120"/>
            <a:ext cx="14479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43800" y="2362320"/>
            <a:ext cx="762120" cy="1828800"/>
          </a:xfrm>
          <a:custGeom>
            <a:avLst/>
            <a:gdLst>
              <a:gd name="textAreaLeft" fmla="*/ 0 w 762120"/>
              <a:gd name="textAreaRight" fmla="*/ 762480 w 76212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93" idx="0"/>
            <a:endCxn id="91" idx="2"/>
          </p:cNvCxnSpPr>
          <p:nvPr/>
        </p:nvCxnSpPr>
        <p:spPr>
          <a:xfrm flipV="1">
            <a:off x="4686120" y="4876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3" idx="0"/>
            <a:endCxn id="92" idx="2"/>
          </p:cNvCxnSpPr>
          <p:nvPr/>
        </p:nvCxnSpPr>
        <p:spPr>
          <a:xfrm flipV="1">
            <a:off x="4686120" y="4876200"/>
            <a:ext cx="152460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93" idx="3"/>
            <a:endCxn id="99" idx="2"/>
          </p:cNvCxnSpPr>
          <p:nvPr/>
        </p:nvCxnSpPr>
        <p:spPr>
          <a:xfrm flipV="1">
            <a:off x="5410080" y="4876560"/>
            <a:ext cx="2324880" cy="496080"/>
          </a:xfrm>
          <a:prstGeom prst="curvedConnector2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6248520" y="2362320"/>
            <a:ext cx="761760" cy="1828800"/>
          </a:xfrm>
          <a:custGeom>
            <a:avLst/>
            <a:gdLst>
              <a:gd name="textAreaLeft" fmla="*/ 0 w 761760"/>
              <a:gd name="textAreaRight" fmla="*/ 762120 w 76176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3276720"/>
            <a:ext cx="2889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groups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erogenous mem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s have associ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which themse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dependent serv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can be cluster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only homogene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can belong i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refer to groups of things - with wildcards or do we add something else to topo re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ther extensions can we think 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how we need to translate this syntax to conform to URL syntax specif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perly determine what a topo ref actually refers to, access to the topology database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9T04:32:57Z</dcterms:created>
  <dc:creator>John Mazzitelli</dc:creator>
  <dc:description/>
  <dc:language>en-US</dc:language>
  <cp:lastModifiedBy>John Mazzitelli</cp:lastModifiedBy>
  <dcterms:modified xsi:type="dcterms:W3CDTF">2005-05-03T05:57:29Z</dcterms:modified>
  <cp:revision>8</cp:revision>
  <dc:subject/>
  <dc:title>Slide 1</dc:title>
</cp:coreProperties>
</file>