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29C8E-47BA-4A11-B832-462562EF2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17C1A-82A8-4471-813D-1B730708F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69DAA-571E-4668-8E6E-88D6640DD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B0522-3336-4D96-9CF1-68461C179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FA6E2-4208-4B8F-8748-A45D17B3E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96F69-2163-49FC-9BCA-65034764D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1F8FC-532E-4CB9-AADE-197E83BEF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F2908-A027-4F34-B211-37AD3035C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7E721-6205-4CC1-9B97-9E8898E55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6F1DF-0A6B-47FC-895E-05023B244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DAFF4-E94D-4C69-9E7F-0B68D0DCA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8BB2A-41E1-4EDB-BDE5-269F149CC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E872E-9A3D-4020-AA24-FA91EF1157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152280"/>
            <a:ext cx="1295640" cy="9144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UI/C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371600" y="1752480"/>
            <a:ext cx="2133720" cy="13716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yper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248520" y="1752480"/>
            <a:ext cx="2133360" cy="137160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yper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g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581280" y="4343400"/>
            <a:ext cx="2133720" cy="137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bD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80880" y="4572000"/>
            <a:ext cx="1295640" cy="9144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76520" y="4800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752480" y="441972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(topoRef*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" name=""/>
          <p:cNvCxnSpPr>
            <a:stCxn id="45" idx="2"/>
            <a:endCxn id="44" idx="2"/>
          </p:cNvCxnSpPr>
          <p:nvPr/>
        </p:nvCxnSpPr>
        <p:spPr>
          <a:xfrm flipH="1" rot="16200000">
            <a:off x="2724120" y="3790800"/>
            <a:ext cx="228960" cy="3619800"/>
          </a:xfrm>
          <a:prstGeom prst="bentConnector3">
            <a:avLst>
              <a:gd name="adj1" fmla="val 20125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9" name=""/>
          <p:cNvSpPr/>
          <p:nvPr/>
        </p:nvSpPr>
        <p:spPr>
          <a:xfrm>
            <a:off x="1373760" y="5943600"/>
            <a:ext cx="268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T(topoRef*, [content]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505320" y="19051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966480" y="1523880"/>
            <a:ext cx="18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load(topoRe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5181480" y="2438280"/>
            <a:ext cx="1067040" cy="190512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rot="17949000">
            <a:off x="4384440" y="3006360"/>
            <a:ext cx="22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download(topoRe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>
            <a:endCxn id="55" idx="3"/>
          </p:cNvCxnSpPr>
          <p:nvPr/>
        </p:nvCxnSpPr>
        <p:spPr>
          <a:xfrm flipH="1" flipV="1" rot="5400000">
            <a:off x="5886360" y="3485880"/>
            <a:ext cx="1219320" cy="1562760"/>
          </a:xfrm>
          <a:prstGeom prst="bentConnector3">
            <a:avLst>
              <a:gd name="adj1" fmla="val 4049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5715000" y="441972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(topoRe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" name=""/>
          <p:cNvCxnSpPr>
            <a:stCxn id="44" idx="3"/>
            <a:endCxn id="55" idx="4"/>
          </p:cNvCxnSpPr>
          <p:nvPr/>
        </p:nvCxnSpPr>
        <p:spPr>
          <a:xfrm flipV="1">
            <a:off x="5715000" y="3238560"/>
            <a:ext cx="1981440" cy="1791000"/>
          </a:xfrm>
          <a:prstGeom prst="bentConnector3">
            <a:avLst>
              <a:gd name="adj1" fmla="val 111720"/>
            </a:avLst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6021720" y="5105520"/>
            <a:ext cx="25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T(topoRef, [content]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981080" y="10666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2743200" y="10663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89280" y="990720"/>
            <a:ext cx="985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putFile</a:t>
            </a:r>
            <a:br>
              <a:rPr sz="1400"/>
            </a:b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(topoRef*,</a:t>
            </a:r>
            <a:br>
              <a:rPr sz="1400"/>
            </a:b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[content]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818440" y="1143000"/>
            <a:ext cx="994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getFile</a:t>
            </a:r>
            <a:br>
              <a:rPr sz="1400"/>
            </a:b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(topoRef*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858000" y="2819520"/>
            <a:ext cx="838080" cy="838080"/>
          </a:xfrm>
          <a:prstGeom prst="can">
            <a:avLst>
              <a:gd name="adj" fmla="val 25000"/>
            </a:avLst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 flipV="1">
            <a:off x="3200040" y="3123720"/>
            <a:ext cx="106668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320040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(topoRef*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895480" y="3200400"/>
            <a:ext cx="91440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212200" y="3276720"/>
            <a:ext cx="120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topoRef*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content]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828800" y="1752480"/>
            <a:ext cx="1219320" cy="304920"/>
          </a:xfrm>
          <a:prstGeom prst="rect">
            <a:avLst/>
          </a:prstGeom>
          <a:gradFill rotWithShape="0">
            <a:gsLst>
              <a:gs pos="0">
                <a:srgbClr val="ff66cc"/>
              </a:gs>
              <a:gs pos="100000">
                <a:srgbClr val="cc99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J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48520" y="1752480"/>
            <a:ext cx="30456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200400" y="1752480"/>
            <a:ext cx="30492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724280" y="4343400"/>
            <a:ext cx="99072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5791320"/>
            <a:ext cx="1143000" cy="838080"/>
          </a:xfrm>
          <a:prstGeom prst="can">
            <a:avLst>
              <a:gd name="adj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yperic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po D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2521800">
            <a:off x="5714640" y="5715000"/>
            <a:ext cx="533520" cy="304920"/>
          </a:xfrm>
          <a:prstGeom prst="leftRightArrow">
            <a:avLst>
              <a:gd name="adj1" fmla="val 50000"/>
              <a:gd name="adj2" fmla="val 3483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a TopologyReferenc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is an extremely important facet to the entire JBN Admin des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s how webdav clients get con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s how the higher levels talk to the virtual file la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s how server refers to multipe n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are two ty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cal (refers to 1 or more nod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(refers to 1 and only 1 no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ype looks the same syntatically; semantically they are different (one has wildcards and/or may refer to multiple nodes; the other only refers to 1 no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pology Re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urceType={rtype};domain={s};platform={s};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ributionName={s};{dist-ext};{rtype-ext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rtype} := [file|jmx|snmp|???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s} := any string, possibly a wildc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dist-ext} := distribution type extensions in the form of [;{s1}={s2}] where {s1} is the name string and {s2} is the value st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rtype-ext} := resource type extensions in the form of [;{s1}={s2}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ributionName infers a distributionTy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ension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pology reference extensions allow you to further define the thing being referenced using additional qualifi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{rtype-ext} for “file” types can be “;path=/a.txt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{dist-ext} for distribution type of “jboss401” can be “;server=all;application=slide.wa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can do everything we want without {dist-ext}, it’ll just be “less nic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s of Topology 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urceType=file;domain=prod;platform=alice;distributionName=myjboss;path=/conf/jboss-service.x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urceType=file;domain=*;platform=*;distributionName=myapache;path=/conf/http.con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urceType=file;domain=*;platform=alice,bob;distributionName=myjboss;path=/conf/jboss-service.x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urceType=jmx;domain=*;platform=*;distributionName=myjboss;objectName=x:nm=v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eric Top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152280" y="1295280"/>
            <a:ext cx="3276720" cy="1828800"/>
            <a:chOff x="152280" y="1295280"/>
            <a:chExt cx="3276720" cy="1828800"/>
          </a:xfrm>
        </p:grpSpPr>
        <p:sp>
          <p:nvSpPr>
            <p:cNvPr id="83" name=""/>
            <p:cNvSpPr/>
            <p:nvPr/>
          </p:nvSpPr>
          <p:spPr>
            <a:xfrm>
              <a:off x="152280" y="1295280"/>
              <a:ext cx="3276720" cy="1828800"/>
            </a:xfrm>
            <a:prstGeom prst="ellipse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source Grou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09480" y="1599840"/>
              <a:ext cx="1219320" cy="45720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latfor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" name=""/>
            <p:cNvGrpSpPr/>
            <p:nvPr/>
          </p:nvGrpSpPr>
          <p:grpSpPr>
            <a:xfrm>
              <a:off x="1828800" y="1599840"/>
              <a:ext cx="1294920" cy="533520"/>
              <a:chOff x="1828800" y="1599840"/>
              <a:chExt cx="1294920" cy="533520"/>
            </a:xfrm>
          </p:grpSpPr>
          <p:sp>
            <p:nvSpPr>
              <p:cNvPr id="86" name=""/>
              <p:cNvSpPr/>
              <p:nvPr/>
            </p:nvSpPr>
            <p:spPr>
              <a:xfrm>
                <a:off x="1828800" y="1599840"/>
                <a:ext cx="1218960" cy="457200"/>
              </a:xfrm>
              <a:prstGeom prst="ellipse">
                <a:avLst/>
              </a:prstGeom>
              <a:solidFill>
                <a:srgbClr val="00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1904760" y="1676160"/>
                <a:ext cx="1218960" cy="457200"/>
              </a:xfrm>
              <a:prstGeom prst="ellipse">
                <a:avLst/>
              </a:prstGeom>
              <a:solidFill>
                <a:srgbClr val="00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" name=""/>
            <p:cNvSpPr/>
            <p:nvPr/>
          </p:nvSpPr>
          <p:spPr>
            <a:xfrm>
              <a:off x="609480" y="2057040"/>
              <a:ext cx="1219320" cy="4572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3048120" y="3048120"/>
            <a:ext cx="5790960" cy="335268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t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29000" y="3581280"/>
            <a:ext cx="5181480" cy="2590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962520" y="4191120"/>
            <a:ext cx="1447560" cy="6858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486400" y="4191120"/>
            <a:ext cx="1447920" cy="6858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962520" y="5029200"/>
            <a:ext cx="144756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572000" y="1371600"/>
            <a:ext cx="4191120" cy="14479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952880" y="1676520"/>
            <a:ext cx="358164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105520" y="1905120"/>
            <a:ext cx="1066680" cy="4572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248520" y="1905120"/>
            <a:ext cx="1066680" cy="4572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391520" y="1905120"/>
            <a:ext cx="1066680" cy="4572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010280" y="4191120"/>
            <a:ext cx="1447920" cy="6858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43800" y="2362320"/>
            <a:ext cx="762120" cy="1828800"/>
          </a:xfrm>
          <a:custGeom>
            <a:avLst/>
            <a:gdLst>
              <a:gd name="textAreaLeft" fmla="*/ 0 w 762120"/>
              <a:gd name="textAreaRight" fmla="*/ 762480 w 762120"/>
              <a:gd name="textAreaTop" fmla="*/ 457200 h 1828800"/>
              <a:gd name="textAreaBottom" fmla="*/ 137160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u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" name=""/>
          <p:cNvCxnSpPr>
            <a:stCxn id="93" idx="0"/>
            <a:endCxn id="91" idx="2"/>
          </p:cNvCxnSpPr>
          <p:nvPr/>
        </p:nvCxnSpPr>
        <p:spPr>
          <a:xfrm flipV="1">
            <a:off x="4686120" y="48762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93" idx="0"/>
            <a:endCxn id="92" idx="2"/>
          </p:cNvCxnSpPr>
          <p:nvPr/>
        </p:nvCxnSpPr>
        <p:spPr>
          <a:xfrm flipV="1">
            <a:off x="4686120" y="4876200"/>
            <a:ext cx="152460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3" name=""/>
          <p:cNvCxnSpPr>
            <a:stCxn id="93" idx="3"/>
            <a:endCxn id="99" idx="2"/>
          </p:cNvCxnSpPr>
          <p:nvPr/>
        </p:nvCxnSpPr>
        <p:spPr>
          <a:xfrm flipV="1">
            <a:off x="5410080" y="4876560"/>
            <a:ext cx="2324880" cy="496080"/>
          </a:xfrm>
          <a:prstGeom prst="curvedConnector2">
            <a:avLst/>
          </a:prstGeom>
          <a:ln w="9360">
            <a:solidFill>
              <a:srgbClr val="000000"/>
            </a:solidFill>
            <a:prstDash val="dashDot"/>
            <a:miter/>
            <a:tailEnd len="med" type="triangle" w="med"/>
          </a:ln>
        </p:spPr>
      </p:cxnSp>
      <p:sp>
        <p:nvSpPr>
          <p:cNvPr id="104" name=""/>
          <p:cNvSpPr/>
          <p:nvPr/>
        </p:nvSpPr>
        <p:spPr>
          <a:xfrm>
            <a:off x="6248520" y="2362320"/>
            <a:ext cx="761760" cy="1828800"/>
          </a:xfrm>
          <a:custGeom>
            <a:avLst/>
            <a:gdLst>
              <a:gd name="textAreaLeft" fmla="*/ 0 w 761760"/>
              <a:gd name="textAreaRight" fmla="*/ 762120 w 761760"/>
              <a:gd name="textAreaTop" fmla="*/ 457200 h 1828800"/>
              <a:gd name="textAreaBottom" fmla="*/ 137160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u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52280" y="3276720"/>
            <a:ext cx="28893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ource groups h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terogenous memb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s have associ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ces which themsel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ve dependent servic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ces can be clustered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t only homogene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ces can belong in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ust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nal Though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we refer to groups of things - with wildcards or do we add something else to topo re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other extensions can we think o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how we need to translate this syntax to conform to URL syntax specific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properly determine what a topo ref actually refers to, access to the topology database is requi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9T04:32:57Z</dcterms:created>
  <dc:creator>John Mazzitelli</dc:creator>
  <dc:description/>
  <dc:language>en-US</dc:language>
  <cp:lastModifiedBy>John Mazzitelli</cp:lastModifiedBy>
  <dcterms:modified xsi:type="dcterms:W3CDTF">2005-05-03T05:57:29Z</dcterms:modified>
  <cp:revision>8</cp:revision>
  <dc:subject/>
  <dc:title>Slide 1</dc:title>
</cp:coreProperties>
</file>