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CC0E1-06EB-44F5-8C1E-9855B6766F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localhost:7080/resource/common/monitor/Visibility.do?m=12890&amp;eid=2%3A10101&amp;mode=chartSingleMetricSingleResource" TargetMode="External"/><Relationship Id="rId2" Type="http://schemas.openxmlformats.org/officeDocument/2006/relationships/hyperlink" Target="http://localhost:7080/resource/common/monitor/Visibility.do?m=12886&amp;eid=2%3A10101&amp;mode=chartSingleMetricSingleResource" TargetMode="External"/><Relationship Id="rId3" Type="http://schemas.openxmlformats.org/officeDocument/2006/relationships/slide" Target="../slides/slide7.xml"/><Relationship Id="rId4"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2857680" y="514440"/>
            <a:ext cx="3429000" cy="2571840"/>
          </a:xfrm>
          <a:prstGeom prst="rect">
            <a:avLst/>
          </a:prstGeom>
          <a:ln w="0">
            <a:noFill/>
          </a:ln>
        </p:spPr>
      </p:sp>
      <p:sp>
        <p:nvSpPr>
          <p:cNvPr id="11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I’m going to be talking about some of the most important features of the new JBoss Network Enterprise Manager. This review builds upon the information given in the JBN EM Introduction presentation which described the architecture, and general concepts behind the Enterprise Manager and also provided an overview of its features. By the end of this presentation you should be in a better position to make the most of the facilities the JBN Enterprise Manager offers for monitoring and administering resources in your enterpr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2857680" y="514440"/>
            <a:ext cx="3429000" cy="1771560"/>
          </a:xfrm>
          <a:prstGeom prst="rect">
            <a:avLst/>
          </a:prstGeom>
          <a:ln w="0">
            <a:noFill/>
          </a:ln>
        </p:spPr>
      </p:sp>
      <p:sp>
        <p:nvSpPr>
          <p:cNvPr id="135"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e of the other key features of Baselines is that it is not necessary to create an alert to detect when a resource has entered its high or low range. If for example the JVM Free Memory of a Tomcat server drops into the low range, i.e. below the baseline low value, then that metric is said to have gone Out of Bounds. All resources that have metrics which are Out of Bounds are immediately marked as problem resources and listed on the dashboard. The Monitor tab on the resource itself will list the particular metrics causing the problem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t is important to note that users of the JBN Enterprise Manager don’t need to perform any setup to obtain this functionality. By default baselines are calculated for every resource and entry into either a high or low range will automatically mark the resource as a problem and highlight it on the dashboard.</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selines can be specified in three different way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y scheduled automatic calculation, this is the default.</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y manually kicking off the calculation. This is how we defined the baselines for the Tomcat metric in the previous demonstration.</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Or by manually specifying values. If there aren’t enough data points to calculate good baselines they can be specified by hand on a metric by metric basis.</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ts take a look some of the features of Baselines within the console.</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start off on the dashboard.</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You can see here the Problem Resource portlet which will show resources for which alerts have occurred or that have metrics which have gone Out of Bounds.</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ext look at the Administration Page.</a:t>
            </a:r>
            <a:endParaRPr b="0" lang="en-US" sz="600" spc="-1" strike="noStrike">
              <a:solidFill>
                <a:srgbClr val="000000"/>
              </a:solidFill>
              <a:latin typeface="Arial"/>
            </a:endParaRPr>
          </a:p>
          <a:p>
            <a:pPr marL="2286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Under Server configuration we have the A</a:t>
            </a:r>
            <a:r>
              <a:rPr b="0" lang="en-US" sz="800" spc="-1" strike="noStrike">
                <a:solidFill>
                  <a:srgbClr val="000000"/>
                </a:solidFill>
                <a:latin typeface="Arial"/>
              </a:rPr>
              <a:t>utomatic Baseline Configuration Properties. This is where we set how often baselines get calculated and the time period of metrics which will go into the calculation.</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pefully this walkthrough has provided you with an insight into how useful baselines can be in monitoring the resources in your enterprise.</a:t>
            </a:r>
            <a:endParaRPr b="0" lang="en-US" sz="800" spc="-1" strike="noStrike">
              <a:solidFill>
                <a:srgbClr val="000000"/>
              </a:solidFill>
              <a:latin typeface="Arial"/>
            </a:endParaRPr>
          </a:p>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turn to PowerPoint]</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3213000" y="228600"/>
            <a:ext cx="2641680" cy="1981080"/>
          </a:xfrm>
          <a:prstGeom prst="rect">
            <a:avLst/>
          </a:prstGeom>
          <a:ln w="0">
            <a:noFill/>
          </a:ln>
        </p:spPr>
      </p:sp>
      <p:sp>
        <p:nvSpPr>
          <p:cNvPr id="137" name="PlaceHolder 2"/>
          <p:cNvSpPr>
            <a:spLocks noGrp="1"/>
          </p:cNvSpPr>
          <p:nvPr>
            <p:ph type="body"/>
          </p:nvPr>
        </p:nvSpPr>
        <p:spPr>
          <a:xfrm>
            <a:off x="914400" y="2285640"/>
            <a:ext cx="7315200" cy="4419720"/>
          </a:xfrm>
          <a:prstGeom prst="rect">
            <a:avLst/>
          </a:prstGeom>
          <a:noFill/>
          <a:ln w="0">
            <a:noFill/>
          </a:ln>
        </p:spPr>
        <p:txBody>
          <a:bodyPr lIns="90000" rIns="90000" tIns="46800" bIns="46800" anchor="t">
            <a:noAutofit/>
          </a:bodyPr>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The final topic we are going to discuss is the Alerts framework. This is the Enterprise Managers mechanism for responding to events. </a:t>
            </a:r>
            <a:endParaRPr b="0" lang="en-US" sz="500" spc="-1" strike="noStrike">
              <a:solidFill>
                <a:srgbClr val="000000"/>
              </a:solidFill>
              <a:latin typeface="Arial"/>
            </a:endParaRPr>
          </a:p>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will talk about several setting which can be used to tune alerts to your precise requirement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first of these is to only have an alert raised when the specific event occurs with sufficient frequency. For example, you can configure an alert to fire only if a metric exceeds a certain value 10 times in one hour, or stays above a value for 5minutes within a period of 30minut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condly you can combine multiple events together using Boolean logic to form the trigger for an alert. For example if any of three events occurs then the alert will fire. Or alternatively, the alert will only be triggered if both event A and event B occur.</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for resources which support control actions, those actions can be associated with an alert. So for instance when a server is out of memory, the low memory alert can be configured to restart the server.</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ets take a look at creating an alert which demonstrates all of the features we’ve just described.</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 alert on the JBoss Server is a good candidate since that resource supports control actions. [Browse Resources, Servers, Server, hit the Alert Tab, hit the new button].</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ive the alert a name, say “server overloaded”.</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t>
            </a:r>
            <a:r>
              <a:rPr b="0" lang="en-US" sz="900" spc="-1" strike="noStrike">
                <a:solidFill>
                  <a:srgbClr val="000000"/>
                </a:solidFill>
                <a:latin typeface="Arial"/>
              </a:rPr>
              <a:t>JVM Free Memory metric and set it to check for dropping below 10mb</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dd another metric, making sure it is added with an OR condition</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t>
            </a:r>
            <a:r>
              <a:rPr b="0" lang="en-US" sz="900" spc="-1" strike="noStrike">
                <a:solidFill>
                  <a:srgbClr val="000000"/>
                </a:solidFill>
                <a:latin typeface="Arial"/>
              </a:rPr>
              <a:t>Active Thread Count metric and set it to check for being above 1,000.</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specify the frequency, lets make the threshold be that the events need to occur twice in a 15min period for the alert to be triggered.</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it the OK button]. Now lets select the control action we want to execute when the alert is fired.</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it the edit button].</a:t>
            </a:r>
            <a:r>
              <a:rPr b="0" lang="en-US" sz="600" spc="-1" strike="noStrike">
                <a:solidFill>
                  <a:srgbClr val="000000"/>
                </a:solidFill>
                <a:latin typeface="Arial"/>
              </a:rPr>
              <a:t> Select that the server is restarted.</a:t>
            </a:r>
            <a:endParaRPr b="0" lang="en-US" sz="600" spc="-1" strike="noStrike">
              <a:solidFill>
                <a:srgbClr val="000000"/>
              </a:solidFill>
              <a:latin typeface="Arial"/>
            </a:endParaRPr>
          </a:p>
          <a:p>
            <a:pPr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hat we’ve created here is just a simple, yet practical, example of what can be done using the JBN Enterprise Manager alerting functionality. It hopefully serves to show how alerts can be used in a number of ways to help you respond to events and manage your resources. </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857680" y="514440"/>
            <a:ext cx="3429000" cy="1771560"/>
          </a:xfrm>
          <a:prstGeom prst="rect">
            <a:avLst/>
          </a:prstGeom>
          <a:ln w="0">
            <a:noFill/>
          </a:ln>
        </p:spPr>
      </p:sp>
      <p:sp>
        <p:nvSpPr>
          <p:cNvPr id="139" name="PlaceHolder 2"/>
          <p:cNvSpPr>
            <a:spLocks noGrp="1"/>
          </p:cNvSpPr>
          <p:nvPr>
            <p:ph type="body"/>
          </p:nvPr>
        </p:nvSpPr>
        <p:spPr>
          <a:xfrm>
            <a:off x="914400" y="2438280"/>
            <a:ext cx="7315200" cy="4114800"/>
          </a:xfrm>
          <a:prstGeom prst="rect">
            <a:avLst/>
          </a:prstGeom>
          <a:noFill/>
          <a:ln w="0">
            <a:noFill/>
          </a:ln>
        </p:spPr>
        <p:txBody>
          <a:bodyPr lIns="90000" rIns="90000" tIns="46800" bIns="46800"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rmally if an event which triggers an alert keeps occurring then the corresponding alert will keep being raised. For instance, every minute the ‘Number of Requests Served per Minute’ metric is above our specified value, our alert will get raised. Sometimes this is the desired behavior but other times we want to filter the alerts.</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re are three ways in which alerts can be filtered:</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Much of the following is taken from the online help]</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The first is by disabling the alert until it is re-enabled manually or by a recovery alert</a:t>
            </a:r>
            <a:r>
              <a:rPr b="0" lang="en-US" sz="600" spc="-1" strike="noStrike">
                <a:solidFill>
                  <a:srgbClr val="000000"/>
                </a:solidFill>
                <a:latin typeface="Arial"/>
              </a:rPr>
              <a:t>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r>
              <a:rPr b="0" lang="en-US" sz="600" spc="-1" strike="noStrike">
                <a:solidFill>
                  <a:srgbClr val="000000"/>
                </a:solidFill>
                <a:latin typeface="Arial"/>
              </a:rPr>
              <a:t>This is the configuration option that will prevent 'alert storms'. Selecting this option will disable the alert after it fires so it does not repeatedly fire. The alert will become re-enabled if it is re-enabled manually within the Enterprise Manager or if a Recovery Alert re-enables it automatically.” A recovery alert is just an alert which goes off when a metric returns to normal, its main purpose is to turn back on an alert which has already been triggered, so that is ready to fire again.</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The second filter is to disregard control actions that are defined for related alerts.</a:t>
            </a:r>
            <a:r>
              <a:rPr b="0" lang="en-US" sz="600" spc="-1" strike="noStrike">
                <a:solidFill>
                  <a:srgbClr val="000000"/>
                </a:solidFill>
                <a:latin typeface="Arial"/>
              </a:rPr>
              <a:t>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r>
              <a:rPr b="0" lang="en-US" sz="600" spc="-1" strike="noStrike">
                <a:solidFill>
                  <a:srgbClr val="000000"/>
                </a:solidFill>
                <a:latin typeface="Arial"/>
              </a:rPr>
              <a:t>This option will only appear for resources that support control actions. This configuration option will make it so that if multiple alerts are fired within a short period, from resources that are members of the same application, only one control action will be executed. This is to prevent a server from being restarted several times in a short period of time for the same alert conditions. An Example would be if you had an alert to restart a Tomcat server if the JVM Free Memory got too low and then another alert to restart the same server if the JVM Active Thread count got too high. If both of these alerts fired at the same time and they were filtering control actions, only 1 restart control action would be executed.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Finally notification actions defined for related alerts can be filtered</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ssentially this is a way to group related alerts into a single notification.</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is option only has an effect on resources that are members of an application and is very useful for cutting down on the number of alerts from a single application. An example would be if you had several resources in an application and each had several alerts. If alerts started firing from several resources, and if each of the alerts was configured for filtering notifications, you would get a single email message with all the alerts, from all the resources, consolidated in it. </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ollowing demonstration will create a recovery alert for the Tomcat alert which we created earlier. This would be used to make sure that only one alert is generated when the number of requests reaches a critical level, rather than many alerts for the duration of the problem.</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ts return to the original Tomcat alert. [Browse Resource, Servers, Tomcat, ALERT link]</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irst step is to make sure this alert only gets triggered once. [Click on the name of the Alert.]</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it the Edit button to change what conditions the alert will be triggered under. Check the “Disable alert” box.</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w once the alert is triggered it will be immediately disabled.</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next step is to create the recovery alert. [Click on the ALERT link. Hit New… button.]</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ive the alert a name, say “too many requests - recovery”.</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ppropriate metric. [Number of Requests Served per Minut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ppropriate value to indicate the metric has returned to normal, say &lt; 110% of the average.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ark this as a Recovery Alert: for the “too many request” alert. [Hit the OK button]</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e’ve now completed the process of creating a recovery alert. We created an alert which will get fired when the metric has returns to normal. When this alert is triggered it will re-enable the original alert, so that it is ready again to catch excessive numbers of requests. </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2857680" y="514440"/>
            <a:ext cx="3429000" cy="2571840"/>
          </a:xfrm>
          <a:prstGeom prst="rect">
            <a:avLst/>
          </a:prstGeom>
          <a:ln w="0">
            <a:noFill/>
          </a:ln>
        </p:spPr>
      </p:sp>
      <p:sp>
        <p:nvSpPr>
          <p:cNvPr id="141"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more details on some of the JBN Enterprise Manager features available through the conso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erprise Manager contains more functionality than what we’ve seen here and the JBoss Network team will be presenting on these topics in the upcoming we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very much for you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2857680" y="514440"/>
            <a:ext cx="3429000" cy="2571840"/>
          </a:xfrm>
          <a:prstGeom prst="rect">
            <a:avLst/>
          </a:prstGeom>
          <a:ln w="0">
            <a:noFill/>
          </a:ln>
        </p:spPr>
      </p:sp>
      <p:sp>
        <p:nvSpPr>
          <p:cNvPr id="11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cover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add resources to the JBN EM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resources can be grouped together in the Enterprise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 of access control to limit users to only view or manage certain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fferent types of charts JBN EM can produ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baselines and how are they useful for monitoring and aler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how alerts can be configured and filtered to make them more usefu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3289320" y="152280"/>
            <a:ext cx="2641680" cy="1981440"/>
          </a:xfrm>
          <a:prstGeom prst="rect">
            <a:avLst/>
          </a:prstGeom>
          <a:ln w="0">
            <a:noFill/>
          </a:ln>
        </p:spPr>
      </p:sp>
      <p:sp>
        <p:nvSpPr>
          <p:cNvPr id="121"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first topic to discuss is how users can add resources to the JBN EM in order for them to begin being managed and monito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re are really two ways of doing this: Auto Scanning and File Scann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Auto Scans are automatically run by the JBN Enterprise Manager Agent on a daily schedule, as well as each time an agent is start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e implementation for Auto Scan varies among platforms. On Unix type platforms, the Auto Scan is performed using a process table scan, which looks for processes that match a given pattern. On Windows platforms, in addition to the process table search, a simple registry scan is performed looking for registry keys that products add during their installation proces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le scanning involves searching the file system of a platform for installed products. JBN EM is configured with particular file and folder name “signatures” for each type of server. For example a particular jar file in a particular folder will mark that location as a JBoss server instal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e File Scan method must be initiated by the user using the New Auto-Discovery links found on all platform pages.” Its called “auto” discovery even though you have to kick it off by hand, in order to differentiate it from manually adding and configuring new servers via the Enterprise Manager console. A File scan can be scheduled to run on a recurring bas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xt we will see a demo of how these scans can be launched from the Enterprise Manager conso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we login to the JBN EM Consol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w we need to pick which platform we are going to discovery resources from. This is not hard in our case, since we only have one platform in the inventory. Note that the Enterprise Manager Agent must be running on the selected platform in order to carry out either the auto or file scan. [Select the platform]</a:t>
            </a:r>
            <a:endParaRPr b="0" lang="en-US" sz="6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the </a:t>
            </a:r>
            <a:r>
              <a:rPr b="0" lang="en-US" sz="800" spc="-1" strike="noStrike">
                <a:solidFill>
                  <a:srgbClr val="000000"/>
                </a:solidFill>
                <a:latin typeface="Arial"/>
              </a:rPr>
              <a:t>New Auto-Discovery  link.</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om this screen just hitting the OK button will carry out an Auto Scan.</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ternately you can choose to do a file scan by selecting one or more Server Types from the list of optio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 can also specify which folders should and should not be searched and how deep into the folder structure to look.</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 matter which method is chosen for discovering new resources, anything which is found still needs to be selected for import into the JBN EM inventory. This is done via the Auto discovery portlet on the dashboard. [Click on the dashboard].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re you can see some resources which have been discovered previously but are not yet part of the inventory. Selecting to import them would add them to the inventory and allow them to be managed and monitored.</a:t>
            </a:r>
            <a:endParaRPr b="0" lang="en-US" sz="8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witch Back to PowerPoint]</a:t>
            </a:r>
            <a:endParaRPr b="0" lang="en-US" sz="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2857680" y="514440"/>
            <a:ext cx="3429000" cy="2571840"/>
          </a:xfrm>
          <a:prstGeom prst="rect">
            <a:avLst/>
          </a:prstGeom>
          <a:ln w="0">
            <a:noFill/>
          </a:ln>
        </p:spPr>
      </p:sp>
      <p:sp>
        <p:nvSpPr>
          <p:cNvPr id="123"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ce resources have been added to the inventory its useful to collect them into logical groups which make sense to your organziation. You can create a group from any arbitrary set of resources, based on any feature you like, such as where the resources are located, who administers the resources, or the business unit the resources are associated with.</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re are 4 types of group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one is the “Compatible Group”. This consists of resources which are all of the same type, e.g. Tomcat 4.1 servers, or JBoss 4.0 Entity EJB’s. Because all resources in the group are of the same type, this enables you to execute a control action on it and have the action simultaneously applied to all resources in the group. So given a group of 4 JBoss servers, all of those servers can be restarted at once by choosing the restart control action on the group. Lets see an example of this: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go to the Browse Resources view and choose to create a new group. [call it Connection Pools]</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create a group of JCA connection pools so give the group an appropriate name. Specify it is a Compatible Group, and select which resource types will go into it. [Hit Ok]</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dd the required connections pools to the group. We will select all of them.</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now have a group of connection pools which aggregates monitoring information [Click on monitor tab]. The charts show data for all three connection pools combined. As mentioned control actions are available on the group if they are available on the individual resources [Click on the control tab]. Executing any of these actions on the group will carry out the action on each of the individual connection pool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type of group is the “Application”.</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pplication groups are meant to enable the gathering together of all the services which make up a logical application, e.g. a Web App, a set of EJB’s and a Connection Pool. The aim is to see the service level of the entire Application from end-to-end. From the application group you can also easily drill down to the service levels of the individual resources to see how they are performing.</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are be able to view monitoring information for an application, but there will be no control tab since there is no guarantee that two different services will support the same control actions.</a:t>
            </a:r>
            <a:endParaRPr b="0" lang="en-US" sz="7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3162240" y="228600"/>
            <a:ext cx="2743200" cy="2057400"/>
          </a:xfrm>
          <a:prstGeom prst="rect">
            <a:avLst/>
          </a:prstGeom>
          <a:ln w="0">
            <a:noFill/>
          </a:ln>
        </p:spPr>
      </p:sp>
      <p:sp>
        <p:nvSpPr>
          <p:cNvPr id="125" name="PlaceHolder 2"/>
          <p:cNvSpPr>
            <a:spLocks noGrp="1"/>
          </p:cNvSpPr>
          <p:nvPr>
            <p:ph type="body"/>
          </p:nvPr>
        </p:nvSpPr>
        <p:spPr>
          <a:xfrm>
            <a:off x="914400" y="2514240"/>
            <a:ext cx="7315200" cy="413388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third way of collating resources is in a mixed 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ixed Groups allow you to gather together all resources involved with a process, e.g. a platform, an application server, an application. Mixed groups are particularly useful when combined with user roles to provide access control to resources. We shall see more of this later in the presentation.</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view inventory information for a mixed group, i.e. see what makes up the group, but you cannot perform control actions on it, or monitor it as a whole. Lets see an example of creating a mixed 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tart at the Browse Resources view and choose to create a new group.</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create a group called MySystem. It will be a Mixed Group, made up of Platforms, Servers and Services. [Hit OK]</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dd the constituent parts. A platform. A JBoss instance. A Connection pool [DefaultDS]. [Hit OK at the bottom]</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now have a group of resources which lets us view our managed system from end-to-end. [Click on the platform, click on the Monitor Tab]. We can view information on the platform itself, the server in that platform, and the services running on the server.</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ourth and final type of group is the Auto-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s the name suggests you don’t manually create these groups. Instead they are automatically created by the JBN Enterprise Manager and are used to group like resources together. Having such a group allows you to see the metrics for all the resources in one place. Next we will see an example of how the JBN EM creates an auto group of all Message Driven EJB’s deployed in a JBoss instance.</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elect a JBoss Server in the resource view. [Browse Resources, Servers, JBN Server]</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see on the left hand side under the Resources tab various auto groups are listed. Clicking on the Message Driven EJB’s link will take us to the Monitor page for the group. Note the “Auto-Group” in the navigation [Highlight Auto-Group].</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rom here we can see the aggregated metrics on all the Message Driven EJB’s in the Server. [Click on the Metric Data tab.] The data shown here, for instance the peak messages received per minute, is the highest value of that metric across all 8 EJBs within the current time range.</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also update the metric collection intervals for all the MDB’s in one go through the Configure link [Click on &gt;Configure] This is obviously quicker than having to manually update the intervals on each EJB. </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Update availability] This has updated the metric collection interval for all 8 MDB’s.</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ok at individual MDB’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3200400" y="152280"/>
            <a:ext cx="2743200" cy="2057400"/>
          </a:xfrm>
          <a:prstGeom prst="rect">
            <a:avLst/>
          </a:prstGeom>
          <a:ln w="0">
            <a:noFill/>
          </a:ln>
        </p:spPr>
      </p:sp>
      <p:sp>
        <p:nvSpPr>
          <p:cNvPr id="127" name="PlaceHolder 2"/>
          <p:cNvSpPr>
            <a:spLocks noGrp="1"/>
          </p:cNvSpPr>
          <p:nvPr>
            <p:ph type="body"/>
          </p:nvPr>
        </p:nvSpPr>
        <p:spPr>
          <a:xfrm>
            <a:off x="914400" y="2285640"/>
            <a:ext cx="7315200" cy="4419720"/>
          </a:xfrm>
          <a:prstGeom prst="rect">
            <a:avLst/>
          </a:prstGeom>
          <a:noFill/>
          <a:ln w="0">
            <a:noFill/>
          </a:ln>
        </p:spPr>
        <p:txBody>
          <a:bodyPr lIns="90000" rIns="90000" tIns="46800" bIns="4680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 the next section we are going to mention two features of the Access Control mechanism within the JBN Enterprise Manager.</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of these deals with how user permissions are granted within the JBN EM. Because platform, server, and service resources "stack“, in the sense that services run in servers that in turn run on platforms, permissions are also stacked. Therefore the permission to create a server, or any child object on a resource, is predicated on the parent resource allowing you to do so. For example, the permission to add a server is really associated with a platform.</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aspect is the suitability of Mixed Groups for enabling fined grained access control. A user gains access to particular resources based on the roles that the user has assigned to them. Roles have two attributes. The first being what actions users in the role can do on particular resource categories, e.g. create servers, view platforms. And secondly the groups of actual resources which those actions will be applied to. The Enterprise Manager allows any number of Compatible Groups or Mixed Groups to be associated with a role. Lets now do an example of setting up a new role and checking what a user with that role can see.</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tart by going to the Administration Pag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hoose to create a new rol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call the role MySystemAdmins.</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Give the role some privileges. [Add view on platform, server, services. Hit the OK button].</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ssign the Mixed group we created earlier to the role. This group contained the platform, the JBoss Server and a single connection pool.</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step is to create a user to put in the role. [Click on the Administration link, and then New User Lin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pecify some details. [Enter in some data and hit the OK button. PWD=123456]</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ssign the role we just created to the user. [Assign the role and hit the OK button].</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test these changes by logging in as the new user. [Logout, login as the new user].</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view the resources the user can see [Click on the Browse Resource lin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ee the platform, the server and the servic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 on Servers and Services]. You can see that access has been restricted to just the resources from the group associated with the users rol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ecause the user has only view privileges on these resources, the link to the Control Actions page has been replaced with a padlock. [Highlight the padloc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gout]</a:t>
            </a:r>
            <a:endParaRPr b="0" lang="en-US" sz="700" spc="-1" strike="noStrike">
              <a:solidFill>
                <a:srgbClr val="000000"/>
              </a:solidFill>
              <a:latin typeface="Arial"/>
            </a:endParaRPr>
          </a:p>
          <a:p>
            <a:pPr indent="0">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Hopefully this example has demonstrated how the JBN Enterprise Manager can be configured to support fine grained access control. =====</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2819520" y="228600"/>
            <a:ext cx="3429000" cy="2571840"/>
          </a:xfrm>
          <a:prstGeom prst="rect">
            <a:avLst/>
          </a:prstGeom>
          <a:ln w="0">
            <a:noFill/>
          </a:ln>
        </p:spPr>
      </p:sp>
      <p:sp>
        <p:nvSpPr>
          <p:cNvPr id="129" name="PlaceHolder 2"/>
          <p:cNvSpPr>
            <a:spLocks noGrp="1"/>
          </p:cNvSpPr>
          <p:nvPr>
            <p:ph type="body"/>
          </p:nvPr>
        </p:nvSpPr>
        <p:spPr>
          <a:xfrm>
            <a:off x="914400" y="3047760"/>
            <a:ext cx="7315200" cy="3390840"/>
          </a:xfrm>
          <a:prstGeom prst="rect">
            <a:avLst/>
          </a:prstGeom>
          <a:noFill/>
          <a:ln w="0">
            <a:noFill/>
          </a:ln>
        </p:spPr>
        <p:txBody>
          <a:bodyPr lIns="90000" rIns="90000" tIns="46800" bIns="46800" anchor="t">
            <a:noAutofit/>
          </a:bodyPr>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two topics will deal with various aspects of metrics. The first of which is charting.</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JBN Enterprise Manager supports producing multiple different types of chart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is the most commonly seen version where multiple charts are created for a single resource, with each chart displaying information on a single metric.</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type is a more detailed version of the first, showing just one large chart of a particular metric. Such single metric charts can be added to the dashboard for quicker acces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third type is an extension of the second. It uses the same large chart format and again only shows data for one metric type, but this time includes data from multiple resource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ext we will see examples of all three chart type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gin and go to the Browse Resources view.]</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 JBoss server has good examples of all these charts [Click on Servers, and choose the JBN Server].</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hat you can see here is the Multiple Metrics, Single Resource view, showing the </a:t>
            </a:r>
            <a:r>
              <a:rPr b="0" lang="en-US" sz="700" spc="-1" strike="noStrike" u="sng">
                <a:solidFill>
                  <a:srgbClr val="009999"/>
                </a:solidFill>
                <a:uFillTx/>
                <a:latin typeface="Arial"/>
                <a:hlinkClick r:id="rId1"/>
              </a:rPr>
              <a:t>Active Thread Count</a:t>
            </a:r>
            <a:r>
              <a:rPr b="0" lang="en-US" sz="700" spc="-1" strike="noStrike" u="sng">
                <a:solidFill>
                  <a:srgbClr val="000000"/>
                </a:solidFill>
                <a:uFillTx/>
                <a:latin typeface="Arial"/>
              </a:rPr>
              <a:t>  and </a:t>
            </a:r>
            <a:r>
              <a:rPr b="0" lang="en-US" sz="700" spc="-1" strike="noStrike" u="sng">
                <a:solidFill>
                  <a:srgbClr val="009999"/>
                </a:solidFill>
                <a:uFillTx/>
                <a:latin typeface="Arial"/>
                <a:hlinkClick r:id="rId2"/>
              </a:rPr>
              <a:t>JVM Total Memory</a:t>
            </a:r>
            <a:r>
              <a:rPr b="0" lang="en-US" sz="700" spc="-1" strike="noStrike" u="sng">
                <a:solidFill>
                  <a:srgbClr val="000000"/>
                </a:solidFill>
                <a:uFillTx/>
                <a:latin typeface="Arial"/>
              </a:rPr>
              <a:t> charts.</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ing on Active Thread Count will take us to the Single Metric, Single Resource view where we can see more details on the metric. For instance it includes peak, average and low values for  the displayed time range, which in this case is the last 8hours.</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 back] Finally a good example of the Single Metric, Multiple Resources chart is the Total connections metric for all the Connection pools in the Server. [Click on JBoss 3.2 JCA Connection Pool , click the Metric Data tab and choose Total Connections. ] You can see here the values for each of the three pools, displayed in a single chart.</a:t>
            </a:r>
            <a:endParaRPr b="0" lang="en-US" sz="700" spc="-1" strike="noStrike">
              <a:solidFill>
                <a:srgbClr val="000000"/>
              </a:solidFill>
              <a:latin typeface="Arial"/>
            </a:endParaRPr>
          </a:p>
          <a:p>
            <a:pPr marL="228600" indent="0">
              <a:lnSpc>
                <a:spcPct val="90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3467160" y="152280"/>
            <a:ext cx="2235240" cy="1676520"/>
          </a:xfrm>
          <a:prstGeom prst="rect">
            <a:avLst/>
          </a:prstGeom>
          <a:ln w="0">
            <a:noFill/>
          </a:ln>
        </p:spPr>
      </p:sp>
      <p:sp>
        <p:nvSpPr>
          <p:cNvPr id="131" name="PlaceHolder 2"/>
          <p:cNvSpPr>
            <a:spLocks noGrp="1"/>
          </p:cNvSpPr>
          <p:nvPr>
            <p:ph type="body"/>
          </p:nvPr>
        </p:nvSpPr>
        <p:spPr>
          <a:xfrm>
            <a:off x="380520" y="1981080"/>
            <a:ext cx="8534520" cy="472464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nal metric related topic is Baselines, which in my opinion is one of the most useful features of JBN EM.</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Enterprise Manager supports calculating baselines for the metrics it collects, i.e. determining low, average and high values for a particular metric, over a selected period of time. By default the Enterprise Manager looks at the metric values collected over the last 7days and recalculates the baselines every 3day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re are two common uses of baselining:</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The first is Trending Analysis:</a:t>
            </a:r>
            <a:r>
              <a:rPr b="0" lang="en-US" sz="700" spc="-1" strike="noStrike">
                <a:solidFill>
                  <a:srgbClr val="000000"/>
                </a:solidFill>
                <a:latin typeface="Arial"/>
              </a:rPr>
              <a:t>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is is useful for analyzing how current activity compares to activity in the recent past. For example, answering the question: Is today’s spike in web traffic really unusual or is it similar to what’s happened over the past week. Using the Enterprise Manager, you establish and retain the same metric baseline value over a specific period of time, then include the baseline when you chart the current values of the metric. You can then identify trends that will help you judge whether a situation is really problematic or no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Secondly Baselining is useful for Exception Management: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aselines add value from an alerts perspective since they can be used to provide notifications when a metric deviates substantially away from “normal”, without having to keeping changing the definition of normal. For instance, if you want to be notified when your web server hits a spike in traffic, you could set an alert on the number of requests served exceeding 150% of the baseline average, without having to know precisely how much that is.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now demonstrate manually triggering the baseline calculations for a metric and then creating an alert using that baseline.</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3543480" y="514440"/>
            <a:ext cx="2057400" cy="1542960"/>
          </a:xfrm>
          <a:prstGeom prst="rect">
            <a:avLst/>
          </a:prstGeom>
          <a:ln w="0">
            <a:noFill/>
          </a:ln>
        </p:spPr>
      </p:sp>
      <p:sp>
        <p:nvSpPr>
          <p:cNvPr id="133"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this demonstration we are going to set a baseline for the ‘Number of Requests Served per Minute’ metric on a Tomcat instance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first off select the Tomcat Server. [Go to the Browse Resources view. Select Servers and then Tomca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on the Metric Data tab.] Select the ‘Number of Requests Served per Minute’ metric and hit Set Baselin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now have baselines generated for this metric, which we can see by viewing its chart. You can see here the high range and low range baselines. The high range is any value above the maximum baseline recorded for this metric. The low range is any value below the minimum baselin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 are going to create an alert using the baselines we’ve just calculate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Back, then click on the ALERT link. Hit New… button.]</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ive the alert a name, say “too many request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the appropriate metric.</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the appropriate value say &gt; 150% of the baseline average. [Hit the OK button]</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ve now created an alert which will get fired every time the Number of Requests Served per Minute exceeds 150% of the baseline average. As usage of a site changes the value of this average is likely to move, but we don’t have to update our alert to reflect these changes, since it is defined using a baselin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urn to PowerPoi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34CBDCC2-F4B4-47C7-AC6C-5806CDF3716C}"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detailed description of some of the key features of the JBN Enterprise Manager consol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elines Note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Alerts</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action invocation tim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mmediately upon detecting trigger condi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frequency limit is exceeded in a given period.</a:t>
            </a:r>
            <a:endParaRPr b="0" lang="en-US" sz="17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compound trigger events for an Alert:</a:t>
            </a:r>
            <a:endParaRPr b="0" lang="en-US" sz="19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vent1 OR Event2 OR Event3.</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vent4 AND Event5.</a:t>
            </a:r>
            <a:endParaRPr b="0" lang="en-US" sz="1400" spc="-1" strike="noStrike">
              <a:solidFill>
                <a:srgbClr val="000000"/>
              </a:solidFill>
              <a:latin typeface="Verdana"/>
            </a:endParaRPr>
          </a:p>
          <a:p>
            <a:pPr lvl="1" marL="90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s can be filtered conditionall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able alert until re-enabled manually or by recovery alert.</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event alert ‘storms’ by disabling alert after its fired the first time.</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regard control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not trigger the same control action.</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ilter notification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be aggregated and only a single alert notification (e.g. email) will be issued.</a:t>
            </a:r>
            <a:endParaRPr b="0" lang="en-US" sz="1400" spc="-1" strike="noStrike">
              <a:solidFill>
                <a:srgbClr val="000000"/>
              </a:solidFill>
              <a:latin typeface="Verdana"/>
            </a:endParaRPr>
          </a:p>
          <a:p>
            <a:pPr lvl="2" marL="1305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 Notes</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
        <p:nvSpPr>
          <p:cNvPr id="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ture WebEx presentations coming soon!</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demonstrate in more detail the features provided by JBN EM, e.g. the Command Line Shell, JBoss monitoring, Tomcat monitoring.</a:t>
            </a:r>
            <a:endParaRPr b="0" lang="en-US" sz="2400" spc="-1" strike="noStrike">
              <a:solidFill>
                <a:srgbClr val="000000"/>
              </a:solidFill>
              <a:latin typeface="Verdana"/>
            </a:endParaRPr>
          </a:p>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Verdana"/>
              </a:rPr>
              <a:t>Thanks for your time!</a:t>
            </a:r>
            <a:endParaRPr b="0" lang="en-US" sz="3600" spc="-1" strike="noStrike">
              <a:solidFill>
                <a:srgbClr val="000000"/>
              </a:solidFill>
              <a:latin typeface="Verdana"/>
            </a:endParaRPr>
          </a:p>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discover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ays to group resour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reating fine-grained access contro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ypes of cha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aseline metric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alert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Discovery</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mechanisms for adding managed resources to the 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ick.</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ooks in the registry (windows only) and process table.</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lo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arches the file system.</a:t>
            </a:r>
            <a:endParaRPr b="0" lang="en-US" sz="23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mpatible Group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 members must be of the same resource type, e.g. all JBoss 3.2 serve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571680">
              <a:spcBef>
                <a:spcPts val="7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plication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 </a:t>
            </a:r>
            <a:endParaRPr b="0" lang="en-US" sz="26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Service resource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f Service resourc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ixed Group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a:t>
            </a:r>
            <a:endParaRPr b="0" lang="en-US" sz="26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Platforms, Servers and Service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Applications.</a:t>
            </a:r>
            <a:endParaRPr b="0" lang="en-US" sz="2300" spc="-1" strike="noStrike">
              <a:solidFill>
                <a:srgbClr val="000000"/>
              </a:solidFill>
              <a:latin typeface="Verdana"/>
            </a:endParaRPr>
          </a:p>
          <a:p>
            <a:pPr lvl="2" marL="134784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571680" indent="-571680">
              <a:spcBef>
                <a:spcPts val="751"/>
              </a:spcBef>
              <a:buClr>
                <a:srgbClr val="cc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Groups</a:t>
            </a:r>
            <a:endParaRPr b="0" lang="en-US" sz="30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reated by JBN-EM, used to provide naturally-occurring/obvious groups.</a:t>
            </a:r>
            <a:endParaRPr b="0" lang="en-US" sz="2300" spc="-1" strike="noStrike">
              <a:solidFill>
                <a:srgbClr val="000000"/>
              </a:solidFill>
              <a:latin typeface="Verdana"/>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ccess control</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missions are ‘stacked’ as resources ar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gt;Server&gt;Service.</a:t>
            </a:r>
            <a:endParaRPr b="0" lang="en-US" sz="26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 good use for Mixed groups is for doing access control.</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grou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role.</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ssociate them.</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ult: User’s in that role will only be able to manage what is in that grou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 Chart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typ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ltiple Metrics,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rmal set of chart displayed on Monitor page.</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view.</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Multiple Resourc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en when viewing charts for groups, e.g. auto-groups and compatible groups.</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 Baselines</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 for a metric:</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w/High/Average values over a rolling time window.</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for trend analysis, and generating appropriate alert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 metric enters its high or low range, i.e. it’s OOB (Out Of Bounds), it is marked as a Problem Resource. </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es can be</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ally calculated on a scheduled basis.</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 calculation can be triggered manually.</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e values can be specified manually.</a:t>
            </a:r>
            <a:endParaRPr b="0" lang="en-US" sz="2100" spc="-1" strike="noStrike">
              <a:solidFill>
                <a:srgbClr val="000000"/>
              </a:solidFill>
              <a:latin typeface="Verdana"/>
            </a:endParaRPr>
          </a:p>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eline notes</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08-09T16:38:41Z</dcterms:modified>
  <cp:revision>72</cp:revision>
  <dc:subject/>
  <dc:title>GUI Details</dc:title>
</cp:coreProperties>
</file>