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131341"/>
        <c:axId val="68288049"/>
      </c:barChart>
      <c:catAx>
        <c:axId val="21131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88049"/>
        <c:crosses val="autoZero"/>
        <c:auto val="1"/>
        <c:lblAlgn val="ctr"/>
        <c:lblOffset val="100"/>
        <c:noMultiLvlLbl val="0"/>
      </c:catAx>
      <c:valAx>
        <c:axId val="68288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31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8957-6653-45C0-86DB-EB96B188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D45-92BD-462E-A751-12BA000D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3A01-A469-4060-B92D-8D555019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F14-0066-4FD4-8A78-EF981A1C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BA0-BE87-424E-ABA6-CAA89E08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E35-8E10-4905-9D1F-31933650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EE2-749A-4ECD-A85A-4760FA0C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934-CF37-4455-98DA-EFC94222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FD4-6B6D-4211-B991-73FC3618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5050-491C-4145-83DF-4F090550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C97-270B-4056-94CA-C00A43BC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89B-64DD-43E5-901D-126D7BF0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621E9-6F46-4E67-96C5-45AD30C8F0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