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236A-CC25-4171-9C7C-D62DF2C9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37A8-7853-4F2E-B90C-BE95CF42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2BC32-E9B3-47A6-8C11-FD326C0E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D4157-9C79-4288-9CFE-81018D4D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83964-34C9-4269-8056-7B2EFCBF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375BF-E9A8-4CF4-8DC1-C0C97CA3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C87A4-8B21-4309-8E0D-8BAE24D2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9D437-4714-457A-B1A2-2D665B6C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94AA1-14C6-45E2-A281-6C1D69B6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96026-FF4F-43D7-84EF-5A661A14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D6958-4C86-4DF0-8589-EB4CA4D4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FDAACE-67BB-4A8C-BADE-32B74F1B2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2307-FBD1-4636-9458-3AB64C9C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55F773-3782-4710-8600-D628C188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32BFC6-2AC5-4B4F-9066-D634AEAC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5B6231-2C29-4ABC-8C52-C33BA745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4551AA-3D6E-4FAB-B506-2AEEBDF3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BAA430-F6C7-4A38-95C7-60E2058C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370DBC-8363-453C-96FA-FC76A660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CCAC90-434A-4281-99EB-3DC8351F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52819D-4CA0-4DC3-B065-873295B1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FCE6B2-F7AD-4E42-B8FF-42EB0FCF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E901EA-2F09-4C22-8097-3470794F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373B-BD47-49AE-8BB3-F366343C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863081-1152-4C0B-BA23-0FCCDF25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A5D70-CBD5-48E4-9CE9-7E95472A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1EFEF-994A-4FC6-8178-71025F9D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41F76-C988-4272-B13A-84DEEE32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35945-E8EA-417F-8E48-36CCA3A5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F3873-1F00-4BEB-9E94-327DB5A1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17125-255F-4EB3-87DC-794DE083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EBCFC-BF69-4F9C-B488-48AB4B6B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A0CBC-B424-4AA1-B2FB-407AAF9B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C163D-25A5-42D2-88A1-0B4457A1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82BC-FA67-42D5-AE8B-AB3A1712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1D33D-35E0-4C87-A0D3-E4B9CE9B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32E7E-85D4-4716-9A9E-5D1C1C40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E880B-0C3E-4D8E-8B3C-9661DDAC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95DEB5-98AD-4B13-B840-5354E23F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227B2-59CD-4FFD-816E-E3E8C0EA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98765F-6C5E-4F5E-AB2D-B493A552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DAA42-D88B-4ADD-AA53-ACC11043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F970A-644F-422F-B27B-150683E6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09C3A-E2A7-435A-AA95-80ADFB32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4E3EE-C60C-4807-B26A-F226A7A4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DF9A-E66F-488A-BD49-50562F55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17DC1-AF10-4A74-8C64-163B2679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044F7-5A85-43A0-9832-0FD7F8EA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BB5AB-7E61-49FC-88DE-F245C912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5C58D-3E6A-46C3-AEEA-84AE2040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F2992-D344-457A-B44A-1B782919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ED64-317D-4342-BA8D-92FB0E93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920B-10C0-49B3-B39C-60EFAE04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236D-AF07-4A93-A2CB-5D147FBA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AC56-59F0-4DAB-B884-9218236E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21F8-930F-4723-B771-B953E159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0362-2D3E-4E5F-9360-C07B9753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D3AD-7346-4B95-A000-C4AB9CCA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D905-44A1-44B2-ACCC-4744B02B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C0AD-9ED4-4B70-94A3-2691C115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0415-61E4-4C97-8BBA-8C3FA44A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ACCF-31DD-4B6F-BE9F-16CC0DA7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103CB-3C8B-4DB3-A6DC-DCD65A8D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2A932-0E0A-424A-AABC-B443C78B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F1B87-552E-497D-B005-F8C95B72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B2DB8-E540-40C3-88EB-603ED2FE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CC5FC-82F7-4BAB-97FA-A4528A6D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AB68-3ADA-4D91-BFFC-BDD53438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3246B-AAAF-40E8-8CD8-B4747F4B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D4E37-4D59-423D-A737-B6E0BD4F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33A3D-09EA-42A6-BDE7-7EE7F7BD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B6E1D-DA8C-4FFD-BCA2-B37A867B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9A843-7056-45F1-AB64-F4749084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B4C95-35D4-4FFD-A529-C155B561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636D6-2475-4323-82EB-1071F872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7DB22-2F41-455E-BD50-4EB4641D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5EF7C-CB70-47E8-86B3-63A7F867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A96AE-D092-4A13-AC32-5356898C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2990-6CE5-44BD-91C4-8B308A34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B0D3A-90C9-49F7-8341-DA63D3B3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7BA28-CC5D-4534-8284-548B4009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17F86-9D65-4DD8-9D97-6D8F26BD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20F3A-4FDC-4C77-9EE5-C96F47C2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91992-D248-4FB0-843E-0015E0D4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F2B5D-C2D7-48E0-8F61-5E8F0303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1D7DD-293B-471F-BD87-22E407DE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AD9CD-E7B3-4ABB-ACE2-166DAF90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B7662-AAC7-4706-915F-4B775D34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46B0B0-C4D0-49CB-A85B-A04C06F7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4F8B-878E-4E6D-91FA-BFC1A747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78E1AF-263C-44FB-BC81-B6CD2F4F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43B8FD-269D-4CDA-BA90-DD78751B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8F9B56-E0DF-4B95-9996-96C71EC0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7FD071-7E8F-4B02-A3CB-AC5E625D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8BA980-0247-4327-BD01-B1F090F6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599587-BEC6-4AEA-842B-EB42C3CC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952B12-8DAE-4244-BE0B-63B7E7A7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6305AD-42A7-4D0D-B93C-24FB9A4A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E201FE-DE8D-4D0C-85BE-6942BE74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107A99-9A86-4D4A-86FF-25DFEF5F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33C7-28E8-4EA5-B5E0-55D8B8D1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3F1F60-34C4-452F-A2D9-006CE1B4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93BCE-C9E6-404A-A7E0-275051D7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4231F-A3A3-4CE9-91FE-7543BB62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E1155-08D9-4D84-B05A-CAA92DDF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5FC3A-8F2D-402C-BA53-42D438EE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880B6-E1BA-45C6-A885-03BD3D93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0D88E-E04E-4D9E-8011-766E360C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E9D70-8C28-43EF-91CD-645D7302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832BF-A0C3-4362-9BF4-6BFA9C56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02460-D0FC-477F-BBE1-5D562BF5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5803-2A86-43A7-8857-3D323D13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6CF45-C179-468F-923B-59AC849F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E33B1-96E9-42D5-9248-04355FB1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F58BD-0F88-4111-8CD5-67E033EA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9C174-BC01-4E94-B99E-0BC7A78B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CA6BB-4874-4A72-A936-CE6B50DC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9D7B7-5E63-437E-83FB-7A90ADA1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EB1F2-3274-43A3-BEC8-33B56241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B3894-D8AA-42D0-978B-02AFBC93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6C991-BF4E-4D7A-BD2C-77E1312A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5A125-2F1B-4B71-8801-8E11B80A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EFD-4778-41F4-964D-AC65DCB8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CFA94-1E82-48CE-B3F2-F4972669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C9602-9CA6-4C85-AFBD-FDB1C9BB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D5CA4-3303-42EB-8D38-5C7731CF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1C55A-4A5D-43B8-837B-189B3223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E87F1-D2E5-4424-89BE-8D66C813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B6456-A052-4CBF-AE15-C88060B2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B3F2D-D6CB-45F5-A868-A9C2F599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136B3-8AD8-44D0-A113-6E22CB06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88A64-0CF8-41C6-909E-0B397D18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5F388-82A7-4F36-AC5E-EB01D424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880C-7A13-4FF5-9B58-26BFBF4C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E524E-A200-4B5B-B9EA-3A6084E2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3A2EE-DCFF-486C-90D9-B052AD2C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B1978-D96F-4E3F-9DDE-122CAF9D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6BF7B-9740-4D93-84DC-16096366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27922-5037-479A-B71F-08A70A75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68150-3EE2-447E-8D42-16A8E289D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88343-AB9B-49F6-85A6-0E66432B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9EA8D-1348-4F2F-8E51-99548070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AE6AE-4E32-44B3-9727-414E952C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F125D-58C3-45B9-972F-62C51CED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E6D8-F11D-43F3-ACCF-A1D53D328FB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D5DA-0C58-40D1-85BE-227E7722487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275C-01E6-4675-8180-3D759779A0E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7F61-2D94-4232-BE16-F6A198167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7952-5DD4-4048-8666-4CED935BBB6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CEF9-0D2C-40E7-B5DD-4500C2DEE36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442B-9BE7-459D-A269-92D52345D0D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76DC-C2F9-4228-BA93-6A0A864BC6F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14E7-D390-408F-B3FC-7ADD3B538F0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7221-78E6-46E9-9BCD-8EBFFBF9E2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1A59-9814-4C75-8EFB-B228F2DCFA3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A890-053D-4237-BB3D-2067FE212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7A9D-2264-498D-88EF-490F4661CA6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A33C-CA70-4582-9DC2-E4E317FE1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2A98-13FC-4569-B677-526CE778397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3924-47B5-4CFA-AB8B-3518763C165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DC7E-E7F0-4A9E-A799-A9A1FF2680B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C821-870B-4697-AF86-F37B51B1C12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E0E7-ECBC-4378-9C9C-7EAC31E06C8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B02F-6BB8-412B-B4E4-73423A62F5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57CC-0D3A-447C-AC41-4FC9CE1CC1B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80D5-9729-47D5-83DE-94624630D43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5468-6D1C-4B74-A575-7FFC4736593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5ECC-3CB3-4B20-A7A7-36FDB0B44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101C-1844-444E-9700-2EDC1AAA381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33660A-EEB2-4B35-8E5D-96BC58679947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BE0BF-B95D-4279-AA8A-08D301AF1D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D6DA78F2-43A3-4AF5-9CE2-9847D5C813D1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36" dur="123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37" dur="123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3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39" dur="123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4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4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19FEA-D45D-4984-8963-F98286F99089}" type="slidenum">
              <a:t>3</a:t>
            </a:fld>
          </a:p>
        </p:txBody>
      </p:sp>
    </p:spTree>
  </p:cSld>
  <p:transition>
    <p:comb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C55A1E-5B9B-4611-BE41-0272CEE741B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21FF4CF0-5339-4824-91FE-FC6D2A5089A6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B9E2E-823E-4753-BDC6-AF9DB15F02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AAB2CB11-44C4-4B37-86D2-1F766281293F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7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9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E47AD-FF10-4415-A46F-331E7FA8AC4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EE4C78E3-7D2F-4C6F-935B-1A4B3A9B28DC}" type="datetime1">
              <a:rPr lang="en-US"/>
              <a:t>07/30/26</a:t>
            </a:fld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