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6560" cy="929484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81">
                <a:moveTo>
                  <a:pt x="5" y="0"/>
                </a:moveTo>
                <a:arcTo wR="5" hR="5" stAng="16200000" swAng="-5400000"/>
                <a:lnTo>
                  <a:pt x="0" y="29276"/>
                </a:lnTo>
                <a:arcTo wR="5" hR="5" stAng="10800000" swAng="-5400000"/>
                <a:lnTo>
                  <a:pt x="21595" y="292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4760" cy="92934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293400"/>
              <a:gd name="textAreaBottom" fmla="*/ 9293040 h 9293400"/>
            </a:gdLst>
            <a:ahLst/>
            <a:rect l="textAreaLeft" t="textAreaTop" r="textAreaRight" b="textAreaBottom"/>
            <a:pathLst>
              <a:path w="21600" h="29284">
                <a:moveTo>
                  <a:pt x="5" y="0"/>
                </a:moveTo>
                <a:arcTo wR="5" hR="5" stAng="16200000" swAng="-5400000"/>
                <a:lnTo>
                  <a:pt x="0" y="29279"/>
                </a:lnTo>
                <a:arcTo wR="5" hR="5" stAng="10800000" swAng="-5400000"/>
                <a:lnTo>
                  <a:pt x="21595" y="292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696960"/>
            <a:ext cx="464796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-360" y="-8703000"/>
            <a:ext cx="360" cy="188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ree custom widge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04840" y="69696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6078600"/>
            <a:ext cx="9131400" cy="776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5240" y="6400800"/>
            <a:ext cx="51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Tcl Conferenc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36760" y="6253200"/>
            <a:ext cx="414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F594400-B80F-4CB7-8855-381EC6256E96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775476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3080" indent="-2530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0880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Tcl/Tk guidelines for improved automated regressions - a case-stud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4335480"/>
            <a:ext cx="365436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Saurabh Kha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Madhur Bh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Tushar G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057400"/>
            <a:ext cx="6502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17'th Annual Tcl/Tk Conference (Tcl'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October 11 - October 15, 201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18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# Verification Point 'newfile'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[property get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[findObject ":vsim.dockbar.tbf0.standard.tb.button_0"] state] "normal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compare [property get [findObject ":vsim.dockbar.tbf0.standard.tb.button_0"] image] "__new_icon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19040"/>
            <a:ext cx="914400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Checks Inserted in the code to verify the state of th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test compare [property get $widget $prop_name] $expected_value</a:t>
            </a:r>
            <a:r>
              <a:rPr b="0" lang="en-I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724280"/>
            <a:ext cx="350496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cking the state and the im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 the button widget using compare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124080"/>
            <a:ext cx="1981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me of the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352320" y="33526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7124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3716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524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 ":vsim.#mBar.#mBar#file" "Ne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" "New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380880"/>
            <a:ext cx="874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Synchronization poi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95280"/>
            <a:ext cx="8991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What is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Types of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waitForObjectItem $objectname  $item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495680"/>
            <a:ext cx="30481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ynchronization Points in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fore every cl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47560" y="47242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479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Use of global procedure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c main {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ooze 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sourcing all global scrip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ean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analyz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os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– clean_al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ean_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- 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global procedure – 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743200"/>
            <a:ext cx="2590560" cy="609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ing global 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5909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l to different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71600" y="4191120"/>
            <a:ext cx="403848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142640" y="4724280"/>
            <a:ext cx="42670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4952880"/>
            <a:ext cx="39621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5146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14800" y="3048120"/>
            <a:ext cx="14479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Limitations and Workaround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black box GUI testing tool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using conventional analog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stom widgets from automation to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vas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reenshot Verification Poi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tual dump of graphical displa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Screenshot 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124080"/>
            <a:ext cx="9144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590920"/>
            <a:ext cx="9144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200400"/>
            <a:ext cx="762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724280"/>
            <a:ext cx="182880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nvas wi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erarchical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057400"/>
            <a:ext cx="152388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reenshot m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and stable GUI testing regre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test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test co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oduct Quality – Customer reported bugs reduced significantl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57600" y="5334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20" y="251424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89121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1520"/>
            <a:ext cx="87598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ed for automated GUI regressio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utomated GUI testing to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uidelines for develop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esting strategies for QA engine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mitations and workarounds 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Need for Automated GUI regression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mplexity of GU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permutation and combinations of sequence of steps to test manu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“human error” in t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ime-to-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repeated test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Automated GUI testing tool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log tool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-ordinate based to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ols –&gt; T-Plan Robot, Auto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 based tool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s on internal objects/widgets of the GU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ols -&gt;Squish,  TKRepl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Guidelines for developer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se of internal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arra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environment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algorithmic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representation of graphical disp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Internal functions and global array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AnnotationFileW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AIn[1:0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B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w1[9:6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Y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Z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selection set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veAnnotationFi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990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240" y="1371600"/>
            <a:ext cx="29718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133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net to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038480"/>
            <a:ext cx="22860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ve anno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200400"/>
            <a:ext cx="22860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l to global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040" y="2666880"/>
            <a:ext cx="3429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3657600"/>
            <a:ext cx="43434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4495680"/>
            <a:ext cx="35049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00400" y="243792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09680" y="342864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45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algorithmic functions and environment variable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 findpath {fullpath separator tree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sanity chec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ree search algorith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tree upda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code for regre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[info exists ::env(MED_REGRESSIONS)]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found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not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$ms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259092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 part of code is enab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der an environment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219320"/>
            <a:ext cx="2819520" cy="7617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gorithmic function call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indpa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 perform complex GUI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18960" y="1676520"/>
            <a:ext cx="46479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19320" y="144756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133720"/>
            <a:ext cx="28195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function performs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ke tree search and tr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5120" y="25146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xt representation of Graphical display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38760" y="1143000"/>
            <a:ext cx="407664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3429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sting strategies for QA engineer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line debu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nable debugging screenshot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urabh</dc:creator>
  <dc:description/>
  <dc:language>en-US</dc:language>
  <cp:lastModifiedBy>Sk</cp:lastModifiedBy>
  <dcterms:modified xsi:type="dcterms:W3CDTF">2010-10-15T13:10:09Z</dcterms:modified>
  <cp:revision>638</cp:revision>
  <dc:subject/>
  <dc:title>Tcl'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