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889F-88B4-46C2-95AF-47A225E7AE2E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7E24-5EB7-4713-89EB-8ECB31A9C1B8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5283-C0AD-4E4A-B931-67F10A3FB0AE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03B2-80A4-406B-B56F-BF03C9F39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C1AE-6EDE-411D-993D-257328D8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5E4C9B-8867-48B8-8330-BE5E0DF2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CE0447-2711-4507-A18C-12CFDECE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09586D-3D45-4DEB-A680-91CCC537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722C69-F1DF-4812-9606-F6A773AC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0CEB4C-8E19-4337-8C7E-AF6C871A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D22007-4967-494F-973F-74B149BA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F1480B-2834-4C44-B83C-CED37A06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E3F3F2-4B22-4A21-94B5-6823E51DF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7DEA06-78C2-4CB3-BCAC-1CB3DD403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BFBD10-2FE0-4212-999C-B67ED4802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2E19-942B-46A0-8A57-FD490EB16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588E73-E67B-47F1-84AD-F50738EB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9DFE16-AC2D-456A-99B9-D776E7EB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597C0E-4A90-479D-9C08-D616C6DC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F38E1E-C68C-440A-BDC3-654FB18C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FE0CD6-5DED-46D2-A47F-47241D3B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47F265-511D-4A1A-8C0D-7E54825A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F786A8-D591-4911-A583-7ECA3101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078355-C2A1-4617-AFE9-57F2DD06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889DCA-F1A8-47D0-AAF8-AE84443B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6BD2F9-63FB-479F-9B99-7D340E0BC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0482-F193-4EF4-8DD7-0046DEF63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609BA6-0C0E-4803-88AC-EA9CBFDE1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E6DBC31-E829-48CD-AF00-59CE7094E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DA62EF7-0622-4353-A3CD-BE61C758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C106CB8-EF67-42A2-8303-E30A49BA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1673D75-89C0-495C-940D-613ABD78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7909A58-4FCE-43C9-A644-72511776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C865848-3A6E-4247-BC1C-74346652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F3FDBE9-92E9-4355-BCAA-5FAF3FFC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EEC633F-85D0-4972-AE4F-3B76D583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C3592C7-A26A-44AC-B6F0-B647A944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D4C56D-A550-4856-A1C9-1A75E3F8D7A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8818D47-8DD6-4015-B7CB-3CEE362C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1880C8B-652D-4172-A754-37C76689D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7786B61-9F2D-4EA3-BD6E-2069DADE8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55612-0EE0-4C8E-A5C6-3B31AE9A77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E2115-B972-4315-AF35-FD66A71669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B3C96-98B5-4E7C-B0D4-2A48F504CB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471403-2870-4C1F-A911-69308163EA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75AF2-A35D-42AF-9457-F2C707CC99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DC1C5-4CFD-4C90-938E-D00F430D72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2629-444C-4337-9108-F4CDA5F3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66BF0-C7AD-4B4E-B28F-350045D442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596BD2-D092-4428-A68F-9FD6584644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D766B-E9E0-4514-B7E4-F29560B203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609F70-4D3B-473F-8BE1-04940C20AC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C274B-8CD1-48C0-B140-F19427D955A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659887-0A87-4283-B011-326E4EA74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D13E87-C040-4843-80BB-14B3C958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B9797A-C65A-464E-AEAA-C91607D0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827892-B2F6-4FCE-B32E-4DBC3404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46F742-9C3D-4BC8-B0CA-F3EB1D30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52EE-8A94-4F5D-BFAA-BAE4B871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5E9F51-76DF-4AA0-BB10-4644237E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1D320D-B95E-409D-B132-E440D218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BEB9D3-F88C-43D0-8463-649BC4A0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9030BF-3520-4485-933B-7BD19598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7B253F-4AC9-4BEA-8190-484586DD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E2C496-A5E2-4797-9208-8146D9EED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4C8E9E-9DCC-4CCB-BDB0-DE78C843A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4D9567-7ECE-4B30-9F73-247B742D1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2C59B7-1A32-4209-BA7A-BD8965D2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4FF34F-9A22-4B46-9207-4BA889FB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EDA8-6AA3-4088-86B2-67746212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A65C5E-D48F-4A46-B055-91ADC83D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FC25A4-61BB-4AE6-A25E-07F954A1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C24491-EC34-4128-9A40-50EA848A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EED4CD-9BFC-4685-A822-61B15E76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384270-F712-4FEF-90B7-E17CDD46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592506-7B2D-4C4A-82A5-A61478B6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3DDAA8-B22B-48A1-B0D0-0C5421D9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DEBD6A-A993-401F-BCD5-829494D43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B04DC4-4E7E-42A3-A6B1-3078485E7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C1829D-EC38-45A1-A116-D1463CE8C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6409-A2E8-4781-B7FC-43B883C2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0C2B0C-21EE-4E3F-BD86-BE5BE128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8C4817-44BC-4492-8098-3F7DE178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F1A3A6-FF07-44BC-AC93-CCF02850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B48401-52B8-454D-9F29-31CF8B3D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A68D40-1C20-41FD-B12F-DFEC1361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467CF8-8A01-4642-912A-D8660092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CF0F1D-9DF4-44C7-8ED5-506150FC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9D5249-8B4F-42CF-A897-E5F9E269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F976B5-D083-452D-A4E3-97BFA9F6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54E5D4-88DD-413D-B4BF-9BC6C0108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FBCD-3F51-4F5B-BEA6-5277DBC3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EB9EFF-6B0A-4187-AD7A-681E3D62D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95D7EC-2A00-43BC-B200-D77C9D5B1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7903BC-B4FE-4FD2-947B-B310ACC9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FD3682-0355-4A19-B98F-BD0A10F0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407A5C-48A7-4929-84E0-98C8C0E4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9EBAFC-E6D1-452C-A81B-D5979FBC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3792F5-6039-4F5D-8034-50C217372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86E153-6074-48E2-8433-5C31A263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279426-F5A4-4FEF-A336-904AA112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7DA9D9-AE93-40D9-8A3C-09AFAA21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DD88-B604-4D36-8454-11D5181B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0C8516-3D34-44AB-AD56-64F64C08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36D15E-C2B1-4A3A-9FE9-EAC715129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769C1F-95F3-4CB5-A736-A6DA95E3A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E4A75E-D092-4914-87DA-054927BF1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FB1A78-E6CB-48CC-9E91-1B150B0A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14D578-D52C-4CF9-B541-6E9A54A6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0D3B7B-EBF7-4339-B55F-54C5B2F8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C22235-596C-478B-AC5B-8028D88E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C99ADB-BD77-448F-B7F3-A04CC931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54B171-527E-46A8-9968-74BD1A2C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641E-6DF2-48B3-B690-51FBA01D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6BC0C5-8177-4235-8F20-ED82392C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9F51C6-E2AC-4174-B4F2-FC3B6F08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B1EC39-9EAD-4E14-B41C-226A522F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B8EC26-B078-4B6E-82E2-5CAB6C34C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05887A-A56E-40BB-A9FF-D6A29C183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F7F064-8A74-4CF5-9931-0D4AEE277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3ED34B-BD57-4D56-927E-356FE4FB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76D75B-0A9B-427A-A662-7FE21F23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13784B-2E9F-4763-85A8-D8FCD554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33411D-3802-4779-BF41-3FB84E2E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90AB-8DC8-4871-BE00-76C04C98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FAD5C8-FA6D-4922-8014-47F9DE93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3D983E-77F3-4A4B-A6B5-D4CA0E0D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F995D0-CCE3-48FF-9B43-B38C6A64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CC128C-AB1E-4EBE-8A9F-81F1F07E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015355-A90B-47AF-9222-8A892548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832FD0-C15A-4F47-8798-B7CF70865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1C8E95-3D07-4648-A792-57CAC3051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3A325C-C944-4EBB-A9A6-E0090EEBB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713E39-2EB7-4410-9B6C-875402A7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2054B5-3623-4B1F-BC95-D1BE24D4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l-GR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AAC4-3974-4F0D-BEAA-A479ED41076A}" type="slidenum">
              <a:rPr b="0" i="1" lang="el-GR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6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7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8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FDFB-484B-4B6B-A913-F5994AC42FFD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9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0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1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B35E-A1E2-4707-8FEE-110A4CCEC5BD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0"/>
          <p:cNvSpPr/>
          <p:nvPr/>
        </p:nvSpPr>
        <p:spPr>
          <a:xfrm flipH="1">
            <a:off x="304920" y="2362320"/>
            <a:ext cx="85341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4267080" y="2209680"/>
            <a:ext cx="0" cy="22100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" name="Line 12"/>
          <p:cNvSpPr/>
          <p:nvPr/>
        </p:nvSpPr>
        <p:spPr>
          <a:xfrm>
            <a:off x="539640" y="990720"/>
            <a:ext cx="0" cy="2133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" name="Rectangle 49"/>
          <p:cNvSpPr/>
          <p:nvPr/>
        </p:nvSpPr>
        <p:spPr>
          <a:xfrm>
            <a:off x="0" y="548640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" name="Text Box 51"/>
          <p:cNvSpPr/>
          <p:nvPr/>
        </p:nvSpPr>
        <p:spPr>
          <a:xfrm>
            <a:off x="2152800" y="5516640"/>
            <a:ext cx="551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nstitute of Informatic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&amp;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Telecommunication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–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NCSR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“Demokritos”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0" name="Picture 54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025280" cy="1024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305560" y="624816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49D8-4E12-4600-9EC8-185544BBEB20}" type="slidenum">
              <a:rPr b="0" i="1" lang="en-US" sz="14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6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7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83F5-7F2C-421F-AEFD-A030F7202343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0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28F5-0CCE-479A-B365-008E692808A4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8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57F8-3182-4222-95DB-F4A15AA00458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2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4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5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6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449C-8ABA-4137-B53E-49FCB1FF0FF5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7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7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8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9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2122-C8A1-4698-9991-6035ABA18859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1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0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1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2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0D82-ADD7-4476-BD14-A9043256DFEE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6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3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4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5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B4B5-78BF-4971-914E-BA0435857E09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0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0.png"/><Relationship Id="rId39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iki.tcl.tk/21595#pagetoce30e53a1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llogon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000" y="9907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Tcl and TclOO</a:t>
            </a:r>
            <a:br>
              <a:rPr sz="24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rom the perspective of a simple user</a:t>
            </a:r>
            <a:br>
              <a:rPr sz="2000"/>
            </a:b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266720" y="2437920"/>
            <a:ext cx="4876920" cy="26672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Georgios Petasi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Software and Knowledge Engineering Laboratory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Institute of Informatics and Telecommunications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National Centre for Scientific Research “Demokritos”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thens, Greece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petasis@iit.demokritos.g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argely a manual (and time consuming) effor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helper Tcl script to perform “easy” substitution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everal months were need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, a few portions could not be por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clOO has some limitation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Or do I have a bad programming style?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ask is now largely finish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nd the helper Tcl script got quite complex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d what about other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about turning the conversion script into a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iTcl emulator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17B5-FC0A-419B-9687-8BB315F02BD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distance of a script that reformats code from an emulator is a simple “eval”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 have created a small package that emulat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630 lines of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gnores less essential features (like protection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goal is to get my applications runnin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A58A-05D4-474C-B0AA-C3D04A57606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58" name="Picture 2" descr="C:\Users\George\Pictures\Editor-myItcl.png"/>
          <p:cNvPicPr/>
          <p:nvPr/>
        </p:nvPicPr>
        <p:blipFill>
          <a:blip r:embed="rId1"/>
          <a:stretch/>
        </p:blipFill>
        <p:spPr>
          <a:xfrm>
            <a:off x="457200" y="914400"/>
            <a:ext cx="82962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quick and simple approach actu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st application executes further than latest iTcl 4.0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3.x object variable references (“@itcl …”) are converted to TclOO equival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t all code substitutions are perform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dding the “my” keyword to existing code is tricky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4 regular expressions are not enough to handle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 package that “parses” Tcl is not availab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inally I gave up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regular expressions for some cas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9194-0379-4B17-AAE5-A30EE42A37E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nfigure/cget on TclO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mmon variables across objects of the same clas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“static” class methods (methods that do not require an object to be called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erent semantics for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specific method in the classes hierarchy of an object cannot be called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requires the keyword “my” while calling methods from inside of a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8480-3236-4686-BB20-FD0E787993F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7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automatically exports methods that start with a lowercase lette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facility for “local” to procedures objects (like itcl::local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0BE5-5F15-4ECB-9728-DC2C6F4C8C9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Similarit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981080" y="1295280"/>
          <a:ext cx="5181840" cy="25956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c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clO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$thi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[self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hain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ex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sco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varname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nheri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uper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oo::define 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576" name="Content Placeholder 2"/>
          <p:cNvSpPr/>
          <p:nvPr/>
        </p:nvSpPr>
        <p:spPr>
          <a:xfrm>
            <a:off x="380880" y="4038480"/>
            <a:ext cx="8382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teresting features of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verything subclasses 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oo::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mixin”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unknown” on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The “my” keywor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7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ABE9-E157-481C-9BC2-23416FDBCB3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4CE1-E4D5-4C43-860D-94A2822A6D2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se study: the Ellogon NLP platfor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llogon is an infrastructure for natural language processing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ag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ually annotat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loading processing components, and apply them on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velopment started in 1998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think with Tcl/Tk 8.1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500.000 lines of C/C++/Tcl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lot of legacy code, especially in the GUI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widespread use of tile/ttk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OO (i.e. iTcl) in most parts of the cod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FFFD-0935-432B-9062-535E2B4AE0F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Architect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576360" y="1143000"/>
            <a:ext cx="7958160" cy="3995640"/>
            <a:chOff x="576360" y="1143000"/>
            <a:chExt cx="7958160" cy="3995640"/>
          </a:xfrm>
        </p:grpSpPr>
        <p:sp>
          <p:nvSpPr>
            <p:cNvPr id="592" name="AutoShape 4"/>
            <p:cNvSpPr/>
            <p:nvPr/>
          </p:nvSpPr>
          <p:spPr>
            <a:xfrm>
              <a:off x="576360" y="1143000"/>
              <a:ext cx="7958160" cy="399564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>
              <a:off x="576360" y="1143000"/>
              <a:ext cx="7958160" cy="2872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>
              <a:off x="576360" y="1430280"/>
              <a:ext cx="7958160" cy="180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595" name="Group 7"/>
          <p:cNvGrpSpPr/>
          <p:nvPr/>
        </p:nvGrpSpPr>
        <p:grpSpPr>
          <a:xfrm>
            <a:off x="614520" y="1467000"/>
            <a:ext cx="2700360" cy="1763640"/>
            <a:chOff x="614520" y="1467000"/>
            <a:chExt cx="2700360" cy="1763640"/>
          </a:xfrm>
        </p:grpSpPr>
        <p:sp>
          <p:nvSpPr>
            <p:cNvPr id="596" name="AutoShape 8"/>
            <p:cNvSpPr/>
            <p:nvPr/>
          </p:nvSpPr>
          <p:spPr>
            <a:xfrm>
              <a:off x="671760" y="1509840"/>
              <a:ext cx="2460600" cy="164952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3f2f7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>
              <a:off x="671760" y="1509840"/>
              <a:ext cx="2460600" cy="5986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>
              <a:off x="671760" y="2113200"/>
              <a:ext cx="246060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9" name="Text Box 11"/>
            <p:cNvSpPr/>
            <p:nvPr/>
          </p:nvSpPr>
          <p:spPr>
            <a:xfrm>
              <a:off x="671760" y="1467000"/>
              <a:ext cx="264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Language Processing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00" name="Picture 12" descr="execRed"/>
            <p:cNvPicPr/>
            <p:nvPr/>
          </p:nvPicPr>
          <p:blipFill>
            <a:blip r:embed="rId1"/>
            <a:stretch/>
          </p:blipFill>
          <p:spPr>
            <a:xfrm>
              <a:off x="614520" y="2009880"/>
              <a:ext cx="122076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3" descr="exec"/>
            <p:cNvPicPr/>
            <p:nvPr/>
          </p:nvPicPr>
          <p:blipFill>
            <a:blip r:embed="rId2"/>
            <a:stretch/>
          </p:blipFill>
          <p:spPr>
            <a:xfrm>
              <a:off x="1044720" y="201168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4" descr="execOrange"/>
            <p:cNvPicPr/>
            <p:nvPr/>
          </p:nvPicPr>
          <p:blipFill>
            <a:blip r:embed="rId3"/>
            <a:stretch/>
          </p:blipFill>
          <p:spPr>
            <a:xfrm>
              <a:off x="1511280" y="2005200"/>
              <a:ext cx="122580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5" descr="execGreen"/>
            <p:cNvPicPr/>
            <p:nvPr/>
          </p:nvPicPr>
          <p:blipFill>
            <a:blip r:embed="rId4"/>
            <a:stretch/>
          </p:blipFill>
          <p:spPr>
            <a:xfrm>
              <a:off x="1982880" y="2006640"/>
              <a:ext cx="1220760" cy="12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Group 16"/>
          <p:cNvGrpSpPr/>
          <p:nvPr/>
        </p:nvGrpSpPr>
        <p:grpSpPr>
          <a:xfrm>
            <a:off x="3768840" y="1467000"/>
            <a:ext cx="3000240" cy="1691640"/>
            <a:chOff x="3768840" y="1467000"/>
            <a:chExt cx="3000240" cy="1691640"/>
          </a:xfrm>
        </p:grpSpPr>
        <p:grpSp>
          <p:nvGrpSpPr>
            <p:cNvPr id="605" name="Group 17"/>
            <p:cNvGrpSpPr/>
            <p:nvPr/>
          </p:nvGrpSpPr>
          <p:grpSpPr>
            <a:xfrm>
              <a:off x="3768840" y="1467000"/>
              <a:ext cx="3000240" cy="1691640"/>
              <a:chOff x="3768840" y="1467000"/>
              <a:chExt cx="3000240" cy="1691640"/>
            </a:xfrm>
          </p:grpSpPr>
          <p:grpSp>
            <p:nvGrpSpPr>
              <p:cNvPr id="606" name="Group 18"/>
              <p:cNvGrpSpPr/>
              <p:nvPr/>
            </p:nvGrpSpPr>
            <p:grpSpPr>
              <a:xfrm>
                <a:off x="3768840" y="1467000"/>
                <a:ext cx="3000240" cy="1691640"/>
                <a:chOff x="3768840" y="1467000"/>
                <a:chExt cx="3000240" cy="1691640"/>
              </a:xfrm>
            </p:grpSpPr>
            <p:sp>
              <p:nvSpPr>
                <p:cNvPr id="607" name="AutoShape 19"/>
                <p:cNvSpPr/>
                <p:nvPr/>
              </p:nvSpPr>
              <p:spPr>
                <a:xfrm>
                  <a:off x="3768840" y="1509480"/>
                  <a:ext cx="3000240" cy="164916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3f2f7"/>
                    </a:gs>
                    <a:gs pos="100000">
                      <a:srgbClr val="fdfdfb">
                        <a:alpha val="0"/>
                      </a:srgbClr>
                    </a:gs>
                  </a:gsLst>
                  <a:lin ang="0"/>
                </a:gradFill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8" name="AutoShape 20"/>
                <p:cNvSpPr/>
                <p:nvPr/>
              </p:nvSpPr>
              <p:spPr>
                <a:xfrm>
                  <a:off x="3768840" y="1509480"/>
                  <a:ext cx="3000240" cy="28692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e8e6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9" name="Line 21"/>
                <p:cNvSpPr/>
                <p:nvPr/>
              </p:nvSpPr>
              <p:spPr>
                <a:xfrm>
                  <a:off x="3768840" y="1796760"/>
                  <a:ext cx="3000240" cy="1440"/>
                </a:xfrm>
                <a:prstGeom prst="line">
                  <a:avLst/>
                </a:prstGeom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10" name="Text Box 22"/>
                <p:cNvSpPr/>
                <p:nvPr/>
              </p:nvSpPr>
              <p:spPr>
                <a:xfrm>
                  <a:off x="3779640" y="1467000"/>
                  <a:ext cx="261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76889c"/>
                      </a:solidFill>
                      <a:latin typeface="Arial"/>
                    </a:rPr>
                    <a:t>Graphical Interface</a:t>
                  </a:r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</p:grpSp>
          <p:pic>
            <p:nvPicPr>
              <p:cNvPr id="611" name="Picture 23" descr="EllogonMainWindows"/>
              <p:cNvPicPr/>
              <p:nvPr/>
            </p:nvPicPr>
            <p:blipFill>
              <a:blip r:embed="rId5"/>
              <a:stretch/>
            </p:blipFill>
            <p:spPr>
              <a:xfrm>
                <a:off x="3852720" y="1836720"/>
                <a:ext cx="1533240" cy="111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Picture 24" descr="Ion2"/>
              <p:cNvPicPr/>
              <p:nvPr/>
            </p:nvPicPr>
            <p:blipFill>
              <a:blip r:embed="rId6"/>
              <a:stretch/>
            </p:blipFill>
            <p:spPr>
              <a:xfrm>
                <a:off x="4968720" y="1938240"/>
                <a:ext cx="1723680" cy="111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3" name="Picture 25" descr="kappfinder"/>
            <p:cNvPicPr/>
            <p:nvPr/>
          </p:nvPicPr>
          <p:blipFill>
            <a:blip r:embed="rId7"/>
            <a:stretch/>
          </p:blipFill>
          <p:spPr>
            <a:xfrm>
              <a:off x="6200640" y="1477800"/>
              <a:ext cx="56808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Group 26"/>
          <p:cNvGrpSpPr/>
          <p:nvPr/>
        </p:nvGrpSpPr>
        <p:grpSpPr>
          <a:xfrm>
            <a:off x="1300320" y="3209760"/>
            <a:ext cx="1040760" cy="489240"/>
            <a:chOff x="1300320" y="3209760"/>
            <a:chExt cx="1040760" cy="489240"/>
          </a:xfrm>
        </p:grpSpPr>
        <p:pic>
          <p:nvPicPr>
            <p:cNvPr id="615" name="Picture 27" descr="ArrowDown"/>
            <p:cNvPicPr/>
            <p:nvPr/>
          </p:nvPicPr>
          <p:blipFill>
            <a:blip r:embed="rId8"/>
            <a:stretch/>
          </p:blipFill>
          <p:spPr>
            <a:xfrm>
              <a:off x="130032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8" descr="ArrowDown"/>
            <p:cNvPicPr/>
            <p:nvPr/>
          </p:nvPicPr>
          <p:blipFill>
            <a:blip r:embed="rId9"/>
            <a:stretch/>
          </p:blipFill>
          <p:spPr>
            <a:xfrm>
              <a:off x="182376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9"/>
          <p:cNvGrpSpPr/>
          <p:nvPr/>
        </p:nvGrpSpPr>
        <p:grpSpPr>
          <a:xfrm>
            <a:off x="4645080" y="3209760"/>
            <a:ext cx="1038240" cy="489240"/>
            <a:chOff x="4645080" y="3209760"/>
            <a:chExt cx="1038240" cy="489240"/>
          </a:xfrm>
        </p:grpSpPr>
        <p:pic>
          <p:nvPicPr>
            <p:cNvPr id="618" name="Picture 30" descr="ArrowDown"/>
            <p:cNvPicPr/>
            <p:nvPr/>
          </p:nvPicPr>
          <p:blipFill>
            <a:blip r:embed="rId10"/>
            <a:stretch/>
          </p:blipFill>
          <p:spPr>
            <a:xfrm>
              <a:off x="516600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31" descr="ArrowDown"/>
            <p:cNvPicPr/>
            <p:nvPr/>
          </p:nvPicPr>
          <p:blipFill>
            <a:blip r:embed="rId11"/>
            <a:stretch/>
          </p:blipFill>
          <p:spPr>
            <a:xfrm>
              <a:off x="4645080" y="3209760"/>
              <a:ext cx="51768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32"/>
          <p:cNvGrpSpPr/>
          <p:nvPr/>
        </p:nvGrpSpPr>
        <p:grpSpPr>
          <a:xfrm>
            <a:off x="3200400" y="1790640"/>
            <a:ext cx="509760" cy="1057320"/>
            <a:chOff x="3200400" y="1790640"/>
            <a:chExt cx="509760" cy="1057320"/>
          </a:xfrm>
        </p:grpSpPr>
        <p:pic>
          <p:nvPicPr>
            <p:cNvPr id="621" name="Picture 33" descr="ArrowDown"/>
            <p:cNvPicPr/>
            <p:nvPr/>
          </p:nvPicPr>
          <p:blipFill>
            <a:blip r:embed="rId12"/>
            <a:stretch/>
          </p:blipFill>
          <p:spPr>
            <a:xfrm>
              <a:off x="3221280" y="1790640"/>
              <a:ext cx="4888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34" descr="ArrowDown"/>
            <p:cNvPicPr/>
            <p:nvPr/>
          </p:nvPicPr>
          <p:blipFill>
            <a:blip r:embed="rId13"/>
            <a:stretch/>
          </p:blipFill>
          <p:spPr>
            <a:xfrm>
              <a:off x="3200400" y="2330280"/>
              <a:ext cx="489240" cy="51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Group 44"/>
          <p:cNvGrpSpPr/>
          <p:nvPr/>
        </p:nvGrpSpPr>
        <p:grpSpPr>
          <a:xfrm>
            <a:off x="6769080" y="1509840"/>
            <a:ext cx="1657080" cy="3522600"/>
            <a:chOff x="6769080" y="1509840"/>
            <a:chExt cx="1657080" cy="3522600"/>
          </a:xfrm>
        </p:grpSpPr>
        <p:sp>
          <p:nvSpPr>
            <p:cNvPr id="624" name="AutoShape 45"/>
            <p:cNvSpPr/>
            <p:nvPr/>
          </p:nvSpPr>
          <p:spPr>
            <a:xfrm>
              <a:off x="6987960" y="1509840"/>
              <a:ext cx="1438200" cy="3522600"/>
            </a:xfrm>
            <a:custGeom>
              <a:avLst/>
              <a:gdLst>
                <a:gd name="textAreaLeft" fmla="*/ 7200 w 1438200"/>
                <a:gd name="textAreaRight" fmla="*/ 1431000 w 1438200"/>
                <a:gd name="textAreaTop" fmla="*/ 7200 h 3522600"/>
                <a:gd name="textAreaBottom" fmla="*/ 3515400 h 3522600"/>
              </a:gdLst>
              <a:ahLst/>
              <a:rect l="textAreaLeft" t="textAreaTop" r="textAreaRight" b="textAreaBottom"/>
              <a:pathLst>
                <a:path w="21600" h="52897">
                  <a:moveTo>
                    <a:pt x="379" y="0"/>
                  </a:moveTo>
                  <a:arcTo wR="379" hR="379" stAng="16200000" swAng="-5400000"/>
                  <a:lnTo>
                    <a:pt x="0" y="52518"/>
                  </a:lnTo>
                  <a:arcTo wR="379" hR="379" stAng="10800000" swAng="-5400000"/>
                  <a:lnTo>
                    <a:pt x="21221" y="52897"/>
                  </a:lnTo>
                  <a:arcTo wR="379" hR="379" stAng="5400000" swAng="-5400000"/>
                  <a:lnTo>
                    <a:pt x="21600" y="379"/>
                  </a:lnTo>
                  <a:arcTo wR="379" hR="379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5" name="AutoShape 46"/>
            <p:cNvSpPr/>
            <p:nvPr/>
          </p:nvSpPr>
          <p:spPr>
            <a:xfrm>
              <a:off x="6991200" y="1514520"/>
              <a:ext cx="282600" cy="3516120"/>
            </a:xfrm>
            <a:custGeom>
              <a:avLst/>
              <a:gdLst>
                <a:gd name="textAreaLeft" fmla="*/ 8280 w 282600"/>
                <a:gd name="textAreaRight" fmla="*/ 274320 w 282600"/>
                <a:gd name="textAreaTop" fmla="*/ 8280 h 3516120"/>
                <a:gd name="textAreaBottom" fmla="*/ 3507840 h 3516120"/>
              </a:gdLst>
              <a:ahLst/>
              <a:rect l="textAreaLeft" t="textAreaTop" r="textAreaRight" b="textAreaBottom"/>
              <a:pathLst>
                <a:path w="21600" h="268434">
                  <a:moveTo>
                    <a:pt x="2184" y="0"/>
                  </a:moveTo>
                  <a:arcTo wR="2184" hR="2184" stAng="16200000" swAng="-5400000"/>
                  <a:lnTo>
                    <a:pt x="0" y="266250"/>
                  </a:lnTo>
                  <a:arcTo wR="2184" hR="2184" stAng="10800000" swAng="-5400000"/>
                  <a:lnTo>
                    <a:pt x="19416" y="268434"/>
                  </a:lnTo>
                  <a:arcTo wR="2184" hR="2184" stAng="5400000" swAng="-5400000"/>
                  <a:lnTo>
                    <a:pt x="21600" y="2184"/>
                  </a:lnTo>
                  <a:arcTo wR="2184" hR="218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6" name="Text Box 47"/>
            <p:cNvSpPr/>
            <p:nvPr/>
          </p:nvSpPr>
          <p:spPr>
            <a:xfrm flipV="1">
              <a:off x="6876720" y="2633760"/>
              <a:ext cx="454680" cy="22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7" name="Text Box 48"/>
            <p:cNvSpPr/>
            <p:nvPr/>
          </p:nvSpPr>
          <p:spPr>
            <a:xfrm>
              <a:off x="7273800" y="1509840"/>
              <a:ext cx="1152360" cy="33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00"/>
                  </a:solidFill>
                  <a:latin typeface="Arial"/>
                </a:rPr>
                <a:t>(HTTP, FTP, SOAP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Operating System 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cc"/>
                  </a:solidFill>
                  <a:latin typeface="Arial"/>
                </a:rPr>
                <a:t>(ActiveX, COM, DDE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"/>
                </a:rPr>
                <a:t>Database </a:t>
              </a:r>
              <a:r>
                <a:rPr b="1" lang="en-US" sz="1400" spc="-1" strike="noStrike">
                  <a:solidFill>
                    <a:srgbClr val="cc9900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9900"/>
                  </a:solidFill>
                  <a:latin typeface="Arial"/>
                </a:rPr>
                <a:t>(ODBC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6889c"/>
                  </a:solidFill>
                  <a:latin typeface="Arial"/>
                </a:rPr>
                <a:t>…</a:t>
              </a:r>
              <a:endParaRPr b="0" lang="en-US" sz="36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28" name="Picture 49" descr="ArrowDown"/>
            <p:cNvPicPr/>
            <p:nvPr/>
          </p:nvPicPr>
          <p:blipFill>
            <a:blip r:embed="rId15"/>
            <a:stretch/>
          </p:blipFill>
          <p:spPr>
            <a:xfrm>
              <a:off x="6802200" y="1971720"/>
              <a:ext cx="21924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50" descr="ArrowDown"/>
            <p:cNvPicPr/>
            <p:nvPr/>
          </p:nvPicPr>
          <p:blipFill>
            <a:blip r:embed="rId16"/>
            <a:stretch/>
          </p:blipFill>
          <p:spPr>
            <a:xfrm>
              <a:off x="6769080" y="2279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51" descr="ArrowDown"/>
            <p:cNvPicPr/>
            <p:nvPr/>
          </p:nvPicPr>
          <p:blipFill>
            <a:blip r:embed="rId17"/>
            <a:stretch/>
          </p:blipFill>
          <p:spPr>
            <a:xfrm>
              <a:off x="6789600" y="4511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52" descr="ArrowDown"/>
            <p:cNvPicPr/>
            <p:nvPr/>
          </p:nvPicPr>
          <p:blipFill>
            <a:blip r:embed="rId18"/>
            <a:stretch/>
          </p:blipFill>
          <p:spPr>
            <a:xfrm>
              <a:off x="6769080" y="4222800"/>
              <a:ext cx="21888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Group 53"/>
          <p:cNvGrpSpPr/>
          <p:nvPr/>
        </p:nvGrpSpPr>
        <p:grpSpPr>
          <a:xfrm>
            <a:off x="576360" y="5403960"/>
            <a:ext cx="2738520" cy="887400"/>
            <a:chOff x="576360" y="5403960"/>
            <a:chExt cx="2738520" cy="887400"/>
          </a:xfrm>
        </p:grpSpPr>
        <p:sp>
          <p:nvSpPr>
            <p:cNvPr id="633" name="AutoShape 54"/>
            <p:cNvSpPr/>
            <p:nvPr/>
          </p:nvSpPr>
          <p:spPr>
            <a:xfrm>
              <a:off x="578160" y="5445000"/>
              <a:ext cx="2736720" cy="82260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4" name="AutoShape 55"/>
            <p:cNvSpPr/>
            <p:nvPr/>
          </p:nvSpPr>
          <p:spPr>
            <a:xfrm>
              <a:off x="576360" y="5446800"/>
              <a:ext cx="273852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5" name="AutoShape 56"/>
            <p:cNvSpPr/>
            <p:nvPr/>
          </p:nvSpPr>
          <p:spPr>
            <a:xfrm>
              <a:off x="578160" y="5446800"/>
              <a:ext cx="2736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6" name="Line 57"/>
            <p:cNvSpPr/>
            <p:nvPr/>
          </p:nvSpPr>
          <p:spPr>
            <a:xfrm>
              <a:off x="578160" y="5734080"/>
              <a:ext cx="27367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7" name="Text Box 58"/>
            <p:cNvSpPr/>
            <p:nvPr/>
          </p:nvSpPr>
          <p:spPr>
            <a:xfrm>
              <a:off x="576360" y="5403960"/>
              <a:ext cx="26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38" name="Picture 59" descr="penguin"/>
            <p:cNvPicPr/>
            <p:nvPr/>
          </p:nvPicPr>
          <p:blipFill>
            <a:blip r:embed="rId19"/>
            <a:stretch/>
          </p:blipFill>
          <p:spPr>
            <a:xfrm>
              <a:off x="2756160" y="5770440"/>
              <a:ext cx="48564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0" descr="Windows"/>
            <p:cNvPicPr/>
            <p:nvPr/>
          </p:nvPicPr>
          <p:blipFill>
            <a:blip r:embed="rId20"/>
            <a:stretch/>
          </p:blipFill>
          <p:spPr>
            <a:xfrm>
              <a:off x="2233800" y="5727600"/>
              <a:ext cx="528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61" descr="folder3"/>
            <p:cNvPicPr/>
            <p:nvPr/>
          </p:nvPicPr>
          <p:blipFill>
            <a:blip r:embed="rId21"/>
            <a:stretch/>
          </p:blipFill>
          <p:spPr>
            <a:xfrm>
              <a:off x="61308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62" descr="folder3_green"/>
            <p:cNvPicPr/>
            <p:nvPr/>
          </p:nvPicPr>
          <p:blipFill>
            <a:blip r:embed="rId22"/>
            <a:stretch/>
          </p:blipFill>
          <p:spPr>
            <a:xfrm>
              <a:off x="93672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3" descr="folder3_grey"/>
            <p:cNvPicPr/>
            <p:nvPr/>
          </p:nvPicPr>
          <p:blipFill>
            <a:blip r:embed="rId23"/>
            <a:stretch/>
          </p:blipFill>
          <p:spPr>
            <a:xfrm>
              <a:off x="126072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64" descr="folder3_yellow"/>
            <p:cNvPicPr/>
            <p:nvPr/>
          </p:nvPicPr>
          <p:blipFill>
            <a:blip r:embed="rId24"/>
            <a:stretch/>
          </p:blipFill>
          <p:spPr>
            <a:xfrm>
              <a:off x="160344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Group 68"/>
          <p:cNvGrpSpPr/>
          <p:nvPr/>
        </p:nvGrpSpPr>
        <p:grpSpPr>
          <a:xfrm>
            <a:off x="7461360" y="5427720"/>
            <a:ext cx="1071360" cy="846000"/>
            <a:chOff x="7461360" y="5427720"/>
            <a:chExt cx="1071360" cy="846000"/>
          </a:xfrm>
        </p:grpSpPr>
        <p:sp>
          <p:nvSpPr>
            <p:cNvPr id="645" name="AutoShape 69"/>
            <p:cNvSpPr/>
            <p:nvPr/>
          </p:nvSpPr>
          <p:spPr>
            <a:xfrm>
              <a:off x="7462800" y="5451480"/>
              <a:ext cx="1069560" cy="82224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6" name="AutoShape 70"/>
            <p:cNvSpPr/>
            <p:nvPr/>
          </p:nvSpPr>
          <p:spPr>
            <a:xfrm>
              <a:off x="7461360" y="5452920"/>
              <a:ext cx="107136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0000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7" name="AutoShape 71"/>
            <p:cNvSpPr/>
            <p:nvPr/>
          </p:nvSpPr>
          <p:spPr>
            <a:xfrm>
              <a:off x="7462800" y="5452920"/>
              <a:ext cx="1069560" cy="18756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8" name="Line 72"/>
            <p:cNvSpPr/>
            <p:nvPr/>
          </p:nvSpPr>
          <p:spPr>
            <a:xfrm>
              <a:off x="7462800" y="5645160"/>
              <a:ext cx="106956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9" name="Text Box 73"/>
            <p:cNvSpPr/>
            <p:nvPr/>
          </p:nvSpPr>
          <p:spPr>
            <a:xfrm>
              <a:off x="746136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???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50" name="Picture 74" descr="folder2_grey"/>
            <p:cNvPicPr/>
            <p:nvPr/>
          </p:nvPicPr>
          <p:blipFill>
            <a:blip r:embed="rId25"/>
            <a:stretch/>
          </p:blipFill>
          <p:spPr>
            <a:xfrm>
              <a:off x="7464240" y="5662440"/>
              <a:ext cx="6076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75" descr="unknown2"/>
            <p:cNvPicPr/>
            <p:nvPr/>
          </p:nvPicPr>
          <p:blipFill>
            <a:blip r:embed="rId26"/>
            <a:stretch/>
          </p:blipFill>
          <p:spPr>
            <a:xfrm>
              <a:off x="7856280" y="5643360"/>
              <a:ext cx="59328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Group 76"/>
          <p:cNvGrpSpPr/>
          <p:nvPr/>
        </p:nvGrpSpPr>
        <p:grpSpPr>
          <a:xfrm>
            <a:off x="1405080" y="4995720"/>
            <a:ext cx="1055160" cy="489240"/>
            <a:chOff x="1405080" y="4995720"/>
            <a:chExt cx="1055160" cy="489240"/>
          </a:xfrm>
        </p:grpSpPr>
        <p:pic>
          <p:nvPicPr>
            <p:cNvPr id="653" name="Picture 77" descr="ArrowDown"/>
            <p:cNvPicPr/>
            <p:nvPr/>
          </p:nvPicPr>
          <p:blipFill>
            <a:blip r:embed="rId27"/>
            <a:stretch/>
          </p:blipFill>
          <p:spPr>
            <a:xfrm>
              <a:off x="194292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78" descr="ArrowDown"/>
            <p:cNvPicPr/>
            <p:nvPr/>
          </p:nvPicPr>
          <p:blipFill>
            <a:blip r:embed="rId28"/>
            <a:stretch/>
          </p:blipFill>
          <p:spPr>
            <a:xfrm>
              <a:off x="140508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79"/>
          <p:cNvGrpSpPr/>
          <p:nvPr/>
        </p:nvGrpSpPr>
        <p:grpSpPr>
          <a:xfrm>
            <a:off x="3600360" y="5019840"/>
            <a:ext cx="1082520" cy="1271160"/>
            <a:chOff x="3600360" y="5019840"/>
            <a:chExt cx="1082520" cy="1271160"/>
          </a:xfrm>
        </p:grpSpPr>
        <p:sp>
          <p:nvSpPr>
            <p:cNvPr id="656" name="AutoShape 80"/>
            <p:cNvSpPr/>
            <p:nvPr/>
          </p:nvSpPr>
          <p:spPr>
            <a:xfrm>
              <a:off x="3605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7" name="AutoShape 81"/>
            <p:cNvSpPr/>
            <p:nvPr/>
          </p:nvSpPr>
          <p:spPr>
            <a:xfrm>
              <a:off x="3603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8" name="AutoShape 82"/>
            <p:cNvSpPr/>
            <p:nvPr/>
          </p:nvSpPr>
          <p:spPr>
            <a:xfrm>
              <a:off x="3605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9" name="Line 83"/>
            <p:cNvSpPr/>
            <p:nvPr/>
          </p:nvSpPr>
          <p:spPr>
            <a:xfrm>
              <a:off x="3605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0" name="Text Box 84"/>
            <p:cNvSpPr/>
            <p:nvPr/>
          </p:nvSpPr>
          <p:spPr>
            <a:xfrm>
              <a:off x="3603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XML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61" name="Picture 85" descr="XMLDocument"/>
            <p:cNvPicPr/>
            <p:nvPr/>
          </p:nvPicPr>
          <p:blipFill>
            <a:blip r:embed="rId29"/>
            <a:stretch/>
          </p:blipFill>
          <p:spPr>
            <a:xfrm>
              <a:off x="4063680" y="5672160"/>
              <a:ext cx="6192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86" descr="folder2"/>
            <p:cNvPicPr/>
            <p:nvPr/>
          </p:nvPicPr>
          <p:blipFill>
            <a:blip r:embed="rId30"/>
            <a:stretch/>
          </p:blipFill>
          <p:spPr>
            <a:xfrm>
              <a:off x="3600360" y="566424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87" descr="UpDownArrow"/>
            <p:cNvPicPr/>
            <p:nvPr/>
          </p:nvPicPr>
          <p:blipFill>
            <a:blip r:embed="rId31"/>
            <a:stretch/>
          </p:blipFill>
          <p:spPr>
            <a:xfrm>
              <a:off x="39970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oup 88"/>
          <p:cNvGrpSpPr/>
          <p:nvPr/>
        </p:nvGrpSpPr>
        <p:grpSpPr>
          <a:xfrm>
            <a:off x="4746600" y="5019840"/>
            <a:ext cx="1071360" cy="1256760"/>
            <a:chOff x="4746600" y="5019840"/>
            <a:chExt cx="1071360" cy="1256760"/>
          </a:xfrm>
        </p:grpSpPr>
        <p:sp>
          <p:nvSpPr>
            <p:cNvPr id="665" name="AutoShape 89"/>
            <p:cNvSpPr/>
            <p:nvPr/>
          </p:nvSpPr>
          <p:spPr>
            <a:xfrm>
              <a:off x="4748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6" name="AutoShape 90"/>
            <p:cNvSpPr/>
            <p:nvPr/>
          </p:nvSpPr>
          <p:spPr>
            <a:xfrm>
              <a:off x="4746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8000">
                    <a:alpha val="25098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7" name="AutoShape 91"/>
            <p:cNvSpPr/>
            <p:nvPr/>
          </p:nvSpPr>
          <p:spPr>
            <a:xfrm>
              <a:off x="4748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8" name="Line 92"/>
            <p:cNvSpPr/>
            <p:nvPr/>
          </p:nvSpPr>
          <p:spPr>
            <a:xfrm>
              <a:off x="4748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9" name="Text Box 93"/>
            <p:cNvSpPr/>
            <p:nvPr/>
          </p:nvSpPr>
          <p:spPr>
            <a:xfrm>
              <a:off x="4746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Ellogon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70" name="Picture 94" descr="unknown"/>
            <p:cNvPicPr/>
            <p:nvPr/>
          </p:nvPicPr>
          <p:blipFill>
            <a:blip r:embed="rId32"/>
            <a:stretch/>
          </p:blipFill>
          <p:spPr>
            <a:xfrm>
              <a:off x="520992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95" descr="folder2_green"/>
            <p:cNvPicPr/>
            <p:nvPr/>
          </p:nvPicPr>
          <p:blipFill>
            <a:blip r:embed="rId33"/>
            <a:stretch/>
          </p:blipFill>
          <p:spPr>
            <a:xfrm>
              <a:off x="4746600" y="5665680"/>
              <a:ext cx="60768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96" descr="EllogonLogo_EGear"/>
            <p:cNvPicPr/>
            <p:nvPr/>
          </p:nvPicPr>
          <p:blipFill>
            <a:blip r:embed="rId34"/>
            <a:stretch/>
          </p:blipFill>
          <p:spPr>
            <a:xfrm>
              <a:off x="5209920" y="5861160"/>
              <a:ext cx="33516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97" descr="UpDownArrow"/>
            <p:cNvPicPr/>
            <p:nvPr/>
          </p:nvPicPr>
          <p:blipFill>
            <a:blip r:embed="rId35"/>
            <a:stretch/>
          </p:blipFill>
          <p:spPr>
            <a:xfrm>
              <a:off x="5119560" y="5019840"/>
              <a:ext cx="28080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Group 98"/>
          <p:cNvGrpSpPr/>
          <p:nvPr/>
        </p:nvGrpSpPr>
        <p:grpSpPr>
          <a:xfrm>
            <a:off x="5881680" y="5019840"/>
            <a:ext cx="1521000" cy="1267920"/>
            <a:chOff x="5881680" y="5019840"/>
            <a:chExt cx="1521000" cy="1267920"/>
          </a:xfrm>
        </p:grpSpPr>
        <p:sp>
          <p:nvSpPr>
            <p:cNvPr id="675" name="AutoShape 99"/>
            <p:cNvSpPr/>
            <p:nvPr/>
          </p:nvSpPr>
          <p:spPr>
            <a:xfrm>
              <a:off x="5883480" y="5451480"/>
              <a:ext cx="151920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6" name="AutoShape 100"/>
            <p:cNvSpPr/>
            <p:nvPr/>
          </p:nvSpPr>
          <p:spPr>
            <a:xfrm>
              <a:off x="5881680" y="5452920"/>
              <a:ext cx="152100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7" name="AutoShape 101"/>
            <p:cNvSpPr/>
            <p:nvPr/>
          </p:nvSpPr>
          <p:spPr>
            <a:xfrm>
              <a:off x="5883480" y="5452920"/>
              <a:ext cx="1519200" cy="19332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8" name="Line 102"/>
            <p:cNvSpPr/>
            <p:nvPr/>
          </p:nvSpPr>
          <p:spPr>
            <a:xfrm>
              <a:off x="5883480" y="5645160"/>
              <a:ext cx="151920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9" name="Text Box 103"/>
            <p:cNvSpPr/>
            <p:nvPr/>
          </p:nvSpPr>
          <p:spPr>
            <a:xfrm>
              <a:off x="5881680" y="5427720"/>
              <a:ext cx="15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Databases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80" name="Picture 104" descr="folder2_yellow"/>
            <p:cNvPicPr/>
            <p:nvPr/>
          </p:nvPicPr>
          <p:blipFill>
            <a:blip r:embed="rId36"/>
            <a:stretch/>
          </p:blipFill>
          <p:spPr>
            <a:xfrm>
              <a:off x="607860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105" descr="spreadsheet"/>
            <p:cNvPicPr/>
            <p:nvPr/>
          </p:nvPicPr>
          <p:blipFill>
            <a:blip r:embed="rId37"/>
            <a:stretch/>
          </p:blipFill>
          <p:spPr>
            <a:xfrm>
              <a:off x="6507360" y="568008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106" descr="UpDownArrow"/>
            <p:cNvPicPr/>
            <p:nvPr/>
          </p:nvPicPr>
          <p:blipFill>
            <a:blip r:embed="rId38"/>
            <a:stretch/>
          </p:blipFill>
          <p:spPr>
            <a:xfrm>
              <a:off x="63802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Group 110"/>
          <p:cNvGrpSpPr/>
          <p:nvPr/>
        </p:nvGrpSpPr>
        <p:grpSpPr>
          <a:xfrm>
            <a:off x="684360" y="3699000"/>
            <a:ext cx="6084720" cy="1333440"/>
            <a:chOff x="684360" y="3699000"/>
            <a:chExt cx="6084720" cy="1333440"/>
          </a:xfrm>
        </p:grpSpPr>
        <p:sp>
          <p:nvSpPr>
            <p:cNvPr id="684" name="AutoShape 36"/>
            <p:cNvSpPr/>
            <p:nvPr/>
          </p:nvSpPr>
          <p:spPr>
            <a:xfrm>
              <a:off x="684360" y="3741840"/>
              <a:ext cx="6084720" cy="1290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008000">
                    <a:alpha val="15294"/>
                  </a:srgbClr>
                </a:gs>
                <a:gs pos="50000">
                  <a:srgbClr val="ccffcc">
                    <a:alpha val="15294"/>
                  </a:srgbClr>
                </a:gs>
                <a:gs pos="100000">
                  <a:srgbClr val="008000">
                    <a:alpha val="15294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5" name="AutoShape 37"/>
            <p:cNvSpPr/>
            <p:nvPr/>
          </p:nvSpPr>
          <p:spPr>
            <a:xfrm>
              <a:off x="684360" y="3741840"/>
              <a:ext cx="6084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6" name="Line 38"/>
            <p:cNvSpPr/>
            <p:nvPr/>
          </p:nvSpPr>
          <p:spPr>
            <a:xfrm>
              <a:off x="684360" y="4029120"/>
              <a:ext cx="608472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7" name="Text Box 39"/>
            <p:cNvSpPr/>
            <p:nvPr/>
          </p:nvSpPr>
          <p:spPr>
            <a:xfrm>
              <a:off x="706320" y="3699000"/>
              <a:ext cx="53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Collection – Document Manager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688" name="Group 65"/>
            <p:cNvGrpSpPr/>
            <p:nvPr/>
          </p:nvGrpSpPr>
          <p:grpSpPr>
            <a:xfrm>
              <a:off x="3941640" y="4424400"/>
              <a:ext cx="2755440" cy="606240"/>
              <a:chOff x="3941640" y="4424400"/>
              <a:chExt cx="2755440" cy="606240"/>
            </a:xfrm>
          </p:grpSpPr>
          <p:sp>
            <p:nvSpPr>
              <p:cNvPr id="689" name="AutoShape 66"/>
              <p:cNvSpPr/>
              <p:nvPr/>
            </p:nvSpPr>
            <p:spPr>
              <a:xfrm>
                <a:off x="3941640" y="4424400"/>
                <a:ext cx="2754000" cy="606240"/>
              </a:xfrm>
              <a:prstGeom prst="roundRect">
                <a:avLst>
                  <a:gd name="adj" fmla="val 714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690" name="AutoShape 67"/>
              <p:cNvSpPr/>
              <p:nvPr/>
            </p:nvSpPr>
            <p:spPr>
              <a:xfrm>
                <a:off x="3941640" y="4425840"/>
                <a:ext cx="2755440" cy="604800"/>
              </a:xfrm>
              <a:prstGeom prst="roundRect">
                <a:avLst>
                  <a:gd name="adj" fmla="val 5801"/>
                </a:avLst>
              </a:prstGeom>
              <a:gradFill rotWithShape="0">
                <a:gsLst>
                  <a:gs pos="0">
                    <a:srgbClr val="ffcc99">
                      <a:alpha val="60392"/>
                    </a:srgbClr>
                  </a:gs>
                  <a:gs pos="100000">
                    <a:srgbClr val="ffe5cb">
                      <a:alpha val="60392"/>
                    </a:srgbClr>
                  </a:gs>
                </a:gsLst>
                <a:lin ang="5400000"/>
              </a:gradFill>
              <a:ln w="6480">
                <a:solidFill>
                  <a:srgbClr val="949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76889c"/>
                    </a:solidFill>
                    <a:latin typeface="Arial"/>
                  </a:rPr>
                  <a:t>Storage Format Abstraction Layer</a:t>
                </a:r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sp>
          <p:nvSpPr>
            <p:cNvPr id="691" name="AutoShape 107"/>
            <p:cNvSpPr/>
            <p:nvPr/>
          </p:nvSpPr>
          <p:spPr>
            <a:xfrm>
              <a:off x="1056960" y="4157640"/>
              <a:ext cx="1712520" cy="868320"/>
            </a:xfrm>
            <a:prstGeom prst="flowChartAlternateProcess">
              <a:avLst/>
            </a:prstGeom>
            <a:gradFill rotWithShape="0">
              <a:gsLst>
                <a:gs pos="0">
                  <a:srgbClr val="cfdfff"/>
                </a:gs>
                <a:gs pos="50000">
                  <a:srgbClr val="a1c0ff"/>
                </a:gs>
                <a:gs pos="100000">
                  <a:srgbClr val="cfd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3399"/>
                  </a:solidFill>
                  <a:latin typeface="Arial"/>
                </a:rPr>
                <a:t>C++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2" name="AutoShape 108"/>
            <p:cNvSpPr/>
            <p:nvPr/>
          </p:nvSpPr>
          <p:spPr>
            <a:xfrm>
              <a:off x="1258560" y="4540320"/>
              <a:ext cx="1290240" cy="4093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80"/>
                  </a:solidFill>
                  <a:latin typeface="Arial"/>
                </a:rPr>
                <a:t>C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3" name="AutoShape 109"/>
            <p:cNvSpPr/>
            <p:nvPr/>
          </p:nvSpPr>
          <p:spPr>
            <a:xfrm>
              <a:off x="2373120" y="4613400"/>
              <a:ext cx="1726920" cy="233280"/>
            </a:xfrm>
            <a:prstGeom prst="leftRightArrow">
              <a:avLst>
                <a:gd name="adj1" fmla="val 50000"/>
                <a:gd name="adj2" fmla="val 14737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00ff00"/>
                </a:gs>
                <a:gs pos="100000">
                  <a:srgbClr val="ccffcc"/>
                </a:gs>
              </a:gsLst>
              <a:lin ang="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694" name="Slide Number Placeholder 107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B0FB-3E19-46FB-A11A-370A4478E72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5" name="Date Placeholder 10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Footer Placeholder 10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: plug-ins in many programming langu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8" name="Group 14"/>
          <p:cNvGrpSpPr/>
          <p:nvPr/>
        </p:nvGrpSpPr>
        <p:grpSpPr>
          <a:xfrm>
            <a:off x="609480" y="1233360"/>
            <a:ext cx="7813440" cy="4969080"/>
            <a:chOff x="609480" y="1233360"/>
            <a:chExt cx="7813440" cy="4969080"/>
          </a:xfrm>
        </p:grpSpPr>
        <p:sp>
          <p:nvSpPr>
            <p:cNvPr id="699" name="AutoShape 15"/>
            <p:cNvSpPr/>
            <p:nvPr/>
          </p:nvSpPr>
          <p:spPr>
            <a:xfrm>
              <a:off x="609480" y="1233360"/>
              <a:ext cx="7813440" cy="496908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0" name="AutoShape 16"/>
            <p:cNvSpPr/>
            <p:nvPr/>
          </p:nvSpPr>
          <p:spPr>
            <a:xfrm>
              <a:off x="609480" y="1233360"/>
              <a:ext cx="7813440" cy="2876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1" name="Line 17"/>
            <p:cNvSpPr/>
            <p:nvPr/>
          </p:nvSpPr>
          <p:spPr>
            <a:xfrm>
              <a:off x="609480" y="1521000"/>
              <a:ext cx="781344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2" name="Group 13"/>
          <p:cNvGrpSpPr/>
          <p:nvPr/>
        </p:nvGrpSpPr>
        <p:grpSpPr>
          <a:xfrm>
            <a:off x="755640" y="1617840"/>
            <a:ext cx="3346200" cy="1019160"/>
            <a:chOff x="755640" y="1617840"/>
            <a:chExt cx="3346200" cy="1019160"/>
          </a:xfrm>
        </p:grpSpPr>
        <p:sp>
          <p:nvSpPr>
            <p:cNvPr id="703" name="AutoShape 7"/>
            <p:cNvSpPr/>
            <p:nvPr/>
          </p:nvSpPr>
          <p:spPr>
            <a:xfrm>
              <a:off x="755640" y="1665360"/>
              <a:ext cx="3346200" cy="957240"/>
            </a:xfrm>
            <a:prstGeom prst="roundRect">
              <a:avLst>
                <a:gd name="adj" fmla="val 10269"/>
              </a:avLst>
            </a:prstGeom>
            <a:gradFill rotWithShape="0">
              <a:gsLst>
                <a:gs pos="0">
                  <a:srgbClr val="d7f5ff"/>
                </a:gs>
                <a:gs pos="100000">
                  <a:srgbClr val="ffffff"/>
                </a:gs>
              </a:gsLst>
              <a:lin ang="0"/>
            </a:gradFill>
            <a:ln w="64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4" name="Text Box 8"/>
            <p:cNvSpPr/>
            <p:nvPr/>
          </p:nvSpPr>
          <p:spPr>
            <a:xfrm>
              <a:off x="1657440" y="1737000"/>
              <a:ext cx="244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99cc"/>
                  </a:solidFill>
                  <a:latin typeface="Arial"/>
                </a:rPr>
                <a:t>Ellogon</a:t>
              </a:r>
              <a:endParaRPr b="0" lang="en-US" sz="4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705" name="Picture 11" descr="execBlueAdaptiveContrast"/>
            <p:cNvPicPr/>
            <p:nvPr/>
          </p:nvPicPr>
          <p:blipFill>
            <a:blip r:embed="rId1"/>
            <a:stretch/>
          </p:blipFill>
          <p:spPr>
            <a:xfrm>
              <a:off x="755640" y="16178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Group 31"/>
          <p:cNvGrpSpPr/>
          <p:nvPr/>
        </p:nvGrpSpPr>
        <p:grpSpPr>
          <a:xfrm>
            <a:off x="3849840" y="2884320"/>
            <a:ext cx="3601440" cy="650880"/>
            <a:chOff x="3849840" y="2884320"/>
            <a:chExt cx="3601440" cy="650880"/>
          </a:xfrm>
        </p:grpSpPr>
        <p:pic>
          <p:nvPicPr>
            <p:cNvPr id="707" name="Picture 20" descr="execGreen"/>
            <p:cNvPicPr/>
            <p:nvPr/>
          </p:nvPicPr>
          <p:blipFill>
            <a:blip r:embed="rId2"/>
            <a:stretch/>
          </p:blipFill>
          <p:spPr>
            <a:xfrm>
              <a:off x="3849840" y="288432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21"/>
            <p:cNvSpPr/>
            <p:nvPr/>
          </p:nvSpPr>
          <p:spPr>
            <a:xfrm>
              <a:off x="4429080" y="2960640"/>
              <a:ext cx="30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cc33"/>
                  </a:solidFill>
                  <a:latin typeface="Verdana"/>
                </a:rPr>
                <a:t>C/C++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9" name="Group 32"/>
          <p:cNvGrpSpPr/>
          <p:nvPr/>
        </p:nvGrpSpPr>
        <p:grpSpPr>
          <a:xfrm>
            <a:off x="3849840" y="3465360"/>
            <a:ext cx="3130560" cy="650880"/>
            <a:chOff x="3849840" y="3465360"/>
            <a:chExt cx="3130560" cy="650880"/>
          </a:xfrm>
        </p:grpSpPr>
        <p:pic>
          <p:nvPicPr>
            <p:cNvPr id="710" name="Picture 19" descr="execRed"/>
            <p:cNvPicPr/>
            <p:nvPr/>
          </p:nvPicPr>
          <p:blipFill>
            <a:blip r:embed="rId3"/>
            <a:stretch/>
          </p:blipFill>
          <p:spPr>
            <a:xfrm>
              <a:off x="3849840" y="346536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22"/>
            <p:cNvSpPr/>
            <p:nvPr/>
          </p:nvSpPr>
          <p:spPr>
            <a:xfrm>
              <a:off x="4429440" y="3537000"/>
              <a:ext cx="25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9900"/>
                  </a:solidFill>
                  <a:latin typeface="Verdana"/>
                </a:rPr>
                <a:t>Java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2" name="Group 33"/>
          <p:cNvGrpSpPr/>
          <p:nvPr/>
        </p:nvGrpSpPr>
        <p:grpSpPr>
          <a:xfrm>
            <a:off x="3849840" y="4041720"/>
            <a:ext cx="2917440" cy="655560"/>
            <a:chOff x="3849840" y="4041720"/>
            <a:chExt cx="2917440" cy="655560"/>
          </a:xfrm>
        </p:grpSpPr>
        <p:pic>
          <p:nvPicPr>
            <p:cNvPr id="713" name="Picture 23" descr="execOrange"/>
            <p:cNvPicPr/>
            <p:nvPr/>
          </p:nvPicPr>
          <p:blipFill>
            <a:blip r:embed="rId4"/>
            <a:stretch/>
          </p:blipFill>
          <p:spPr>
            <a:xfrm>
              <a:off x="3849840" y="4041720"/>
              <a:ext cx="65556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24"/>
            <p:cNvSpPr/>
            <p:nvPr/>
          </p:nvSpPr>
          <p:spPr>
            <a:xfrm>
              <a:off x="4429080" y="4087800"/>
              <a:ext cx="23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cc00"/>
                  </a:solidFill>
                  <a:latin typeface="Verdana"/>
                </a:rPr>
                <a:t>Tc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5" name="Group 34"/>
          <p:cNvGrpSpPr/>
          <p:nvPr/>
        </p:nvGrpSpPr>
        <p:grpSpPr>
          <a:xfrm>
            <a:off x="3849840" y="4616280"/>
            <a:ext cx="3130560" cy="650880"/>
            <a:chOff x="3849840" y="4616280"/>
            <a:chExt cx="3130560" cy="650880"/>
          </a:xfrm>
        </p:grpSpPr>
        <p:pic>
          <p:nvPicPr>
            <p:cNvPr id="716" name="Picture 25" descr="execDeepBlue"/>
            <p:cNvPicPr/>
            <p:nvPr/>
          </p:nvPicPr>
          <p:blipFill>
            <a:blip r:embed="rId5"/>
            <a:stretch/>
          </p:blipFill>
          <p:spPr>
            <a:xfrm>
              <a:off x="3849840" y="461628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27"/>
            <p:cNvSpPr/>
            <p:nvPr/>
          </p:nvSpPr>
          <p:spPr>
            <a:xfrm>
              <a:off x="4428000" y="4689360"/>
              <a:ext cx="25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Verdana"/>
                </a:rPr>
                <a:t>Per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8" name="Group 35"/>
          <p:cNvGrpSpPr/>
          <p:nvPr/>
        </p:nvGrpSpPr>
        <p:grpSpPr>
          <a:xfrm>
            <a:off x="3849840" y="5191200"/>
            <a:ext cx="3528360" cy="650880"/>
            <a:chOff x="3849840" y="5191200"/>
            <a:chExt cx="3528360" cy="650880"/>
          </a:xfrm>
        </p:grpSpPr>
        <p:pic>
          <p:nvPicPr>
            <p:cNvPr id="719" name="Picture 28" descr="execMustard"/>
            <p:cNvPicPr/>
            <p:nvPr/>
          </p:nvPicPr>
          <p:blipFill>
            <a:blip r:embed="rId6"/>
            <a:stretch/>
          </p:blipFill>
          <p:spPr>
            <a:xfrm>
              <a:off x="3849840" y="519120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30"/>
            <p:cNvSpPr/>
            <p:nvPr/>
          </p:nvSpPr>
          <p:spPr>
            <a:xfrm>
              <a:off x="4427640" y="5276880"/>
              <a:ext cx="295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cc00"/>
                  </a:solidFill>
                  <a:latin typeface="Verdana"/>
                </a:rPr>
                <a:t>Python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21" name="Group 41"/>
          <p:cNvGrpSpPr/>
          <p:nvPr/>
        </p:nvGrpSpPr>
        <p:grpSpPr>
          <a:xfrm>
            <a:off x="1071720" y="2622240"/>
            <a:ext cx="368280" cy="3219480"/>
            <a:chOff x="1071720" y="2622240"/>
            <a:chExt cx="368280" cy="3219480"/>
          </a:xfrm>
        </p:grpSpPr>
        <p:sp>
          <p:nvSpPr>
            <p:cNvPr id="722" name="AutoShape 42"/>
            <p:cNvSpPr/>
            <p:nvPr/>
          </p:nvSpPr>
          <p:spPr>
            <a:xfrm rot="16200000">
              <a:off x="-362520" y="4070160"/>
              <a:ext cx="3205800" cy="336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 rot="16200000">
              <a:off x="-353520" y="404784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Arial"/>
                </a:rPr>
                <a:t>CDM API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24" name="Line 44"/>
          <p:cNvSpPr/>
          <p:nvPr/>
        </p:nvSpPr>
        <p:spPr>
          <a:xfrm>
            <a:off x="1440000" y="317664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5" name="Line 45"/>
          <p:cNvSpPr/>
          <p:nvPr/>
        </p:nvSpPr>
        <p:spPr>
          <a:xfrm>
            <a:off x="144000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6" name="Line 46"/>
          <p:cNvSpPr/>
          <p:nvPr/>
        </p:nvSpPr>
        <p:spPr>
          <a:xfrm>
            <a:off x="144000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7" name="Line 47"/>
          <p:cNvSpPr/>
          <p:nvPr/>
        </p:nvSpPr>
        <p:spPr>
          <a:xfrm>
            <a:off x="1440000" y="490536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8" name="Line 48"/>
          <p:cNvSpPr/>
          <p:nvPr/>
        </p:nvSpPr>
        <p:spPr>
          <a:xfrm>
            <a:off x="1440000" y="548172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29" name="Group 2195"/>
          <p:cNvGrpSpPr/>
          <p:nvPr/>
        </p:nvGrpSpPr>
        <p:grpSpPr>
          <a:xfrm>
            <a:off x="1722600" y="3514680"/>
            <a:ext cx="1949400" cy="490320"/>
            <a:chOff x="1722600" y="3514680"/>
            <a:chExt cx="1949400" cy="490320"/>
          </a:xfrm>
        </p:grpSpPr>
        <p:grpSp>
          <p:nvGrpSpPr>
            <p:cNvPr id="730" name="Group 2166"/>
            <p:cNvGrpSpPr/>
            <p:nvPr/>
          </p:nvGrpSpPr>
          <p:grpSpPr>
            <a:xfrm>
              <a:off x="1722600" y="3514680"/>
              <a:ext cx="1949400" cy="490320"/>
              <a:chOff x="1722600" y="3514680"/>
              <a:chExt cx="1949400" cy="490320"/>
            </a:xfrm>
          </p:grpSpPr>
          <p:sp>
            <p:nvSpPr>
              <p:cNvPr id="731" name="AutoShape 2167"/>
              <p:cNvSpPr/>
              <p:nvPr/>
            </p:nvSpPr>
            <p:spPr>
              <a:xfrm>
                <a:off x="1722600" y="3514680"/>
                <a:ext cx="1941120" cy="44784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32" name="Text Box 2168"/>
              <p:cNvSpPr/>
              <p:nvPr/>
            </p:nvSpPr>
            <p:spPr>
              <a:xfrm>
                <a:off x="1722600" y="3514680"/>
                <a:ext cx="194940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Java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33" name="Picture 49" descr="JavaModule"/>
            <p:cNvPicPr/>
            <p:nvPr/>
          </p:nvPicPr>
          <p:blipFill>
            <a:blip r:embed="rId7"/>
            <a:stretch/>
          </p:blipFill>
          <p:spPr>
            <a:xfrm>
              <a:off x="1806480" y="3560760"/>
              <a:ext cx="388800" cy="38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4" name="Line 2170"/>
          <p:cNvSpPr/>
          <p:nvPr/>
        </p:nvSpPr>
        <p:spPr>
          <a:xfrm>
            <a:off x="369252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5" name="Line 2176"/>
          <p:cNvSpPr/>
          <p:nvPr/>
        </p:nvSpPr>
        <p:spPr>
          <a:xfrm>
            <a:off x="369252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36" name="Group 2178"/>
          <p:cNvGrpSpPr/>
          <p:nvPr/>
        </p:nvGrpSpPr>
        <p:grpSpPr>
          <a:xfrm>
            <a:off x="1727280" y="4667400"/>
            <a:ext cx="1949400" cy="490320"/>
            <a:chOff x="1727280" y="4667400"/>
            <a:chExt cx="1949400" cy="490320"/>
          </a:xfrm>
        </p:grpSpPr>
        <p:sp>
          <p:nvSpPr>
            <p:cNvPr id="737" name="AutoShape 2179"/>
            <p:cNvSpPr/>
            <p:nvPr/>
          </p:nvSpPr>
          <p:spPr>
            <a:xfrm>
              <a:off x="1727280" y="466740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38" name="Text Box 2180"/>
            <p:cNvSpPr/>
            <p:nvPr/>
          </p:nvSpPr>
          <p:spPr>
            <a:xfrm>
              <a:off x="1727280" y="46674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Perl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39" name="Line 2182"/>
          <p:cNvSpPr/>
          <p:nvPr/>
        </p:nvSpPr>
        <p:spPr>
          <a:xfrm>
            <a:off x="3697200" y="490536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0" name="Group 2184"/>
          <p:cNvGrpSpPr/>
          <p:nvPr/>
        </p:nvGrpSpPr>
        <p:grpSpPr>
          <a:xfrm>
            <a:off x="1727280" y="5243400"/>
            <a:ext cx="1949400" cy="490680"/>
            <a:chOff x="1727280" y="5243400"/>
            <a:chExt cx="1949400" cy="490680"/>
          </a:xfrm>
        </p:grpSpPr>
        <p:sp>
          <p:nvSpPr>
            <p:cNvPr id="741" name="AutoShape 2185"/>
            <p:cNvSpPr/>
            <p:nvPr/>
          </p:nvSpPr>
          <p:spPr>
            <a:xfrm>
              <a:off x="1727280" y="5243400"/>
              <a:ext cx="1941120" cy="4482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2" name="Text Box 2186"/>
            <p:cNvSpPr/>
            <p:nvPr/>
          </p:nvSpPr>
          <p:spPr>
            <a:xfrm>
              <a:off x="1727280" y="524340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00"/>
                  </a:solidFill>
                  <a:latin typeface="Arial"/>
                </a:rPr>
                <a:t>Python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3" name="Line 2188"/>
          <p:cNvSpPr/>
          <p:nvPr/>
        </p:nvSpPr>
        <p:spPr>
          <a:xfrm>
            <a:off x="3697200" y="548172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4" name="Group 2190"/>
          <p:cNvGrpSpPr/>
          <p:nvPr/>
        </p:nvGrpSpPr>
        <p:grpSpPr>
          <a:xfrm>
            <a:off x="1727280" y="2924280"/>
            <a:ext cx="1949400" cy="490320"/>
            <a:chOff x="1727280" y="2924280"/>
            <a:chExt cx="1949400" cy="490320"/>
          </a:xfrm>
        </p:grpSpPr>
        <p:sp>
          <p:nvSpPr>
            <p:cNvPr id="745" name="AutoShape 2191"/>
            <p:cNvSpPr/>
            <p:nvPr/>
          </p:nvSpPr>
          <p:spPr>
            <a:xfrm>
              <a:off x="1727280" y="292428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6" name="Text Box 2192"/>
            <p:cNvSpPr/>
            <p:nvPr/>
          </p:nvSpPr>
          <p:spPr>
            <a:xfrm>
              <a:off x="1727280" y="292428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Direct Link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7" name="Line 2194"/>
          <p:cNvSpPr/>
          <p:nvPr/>
        </p:nvSpPr>
        <p:spPr>
          <a:xfrm>
            <a:off x="3697200" y="316224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8" name="Group 2198"/>
          <p:cNvGrpSpPr/>
          <p:nvPr/>
        </p:nvGrpSpPr>
        <p:grpSpPr>
          <a:xfrm>
            <a:off x="1722600" y="4091040"/>
            <a:ext cx="1949400" cy="489960"/>
            <a:chOff x="1722600" y="4091040"/>
            <a:chExt cx="1949400" cy="489960"/>
          </a:xfrm>
        </p:grpSpPr>
        <p:grpSp>
          <p:nvGrpSpPr>
            <p:cNvPr id="749" name="Group 2172"/>
            <p:cNvGrpSpPr/>
            <p:nvPr/>
          </p:nvGrpSpPr>
          <p:grpSpPr>
            <a:xfrm>
              <a:off x="1722600" y="4091040"/>
              <a:ext cx="1949400" cy="489960"/>
              <a:chOff x="1722600" y="4091040"/>
              <a:chExt cx="1949400" cy="489960"/>
            </a:xfrm>
          </p:grpSpPr>
          <p:sp>
            <p:nvSpPr>
              <p:cNvPr id="750" name="AutoShape 2173"/>
              <p:cNvSpPr/>
              <p:nvPr/>
            </p:nvSpPr>
            <p:spPr>
              <a:xfrm>
                <a:off x="1722600" y="4091040"/>
                <a:ext cx="1941120" cy="44748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51" name="Text Box 2174"/>
              <p:cNvSpPr/>
              <p:nvPr/>
            </p:nvSpPr>
            <p:spPr>
              <a:xfrm>
                <a:off x="1722600" y="4091040"/>
                <a:ext cx="1949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Tcl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52" name="Picture 2196" descr="New Image"/>
            <p:cNvPicPr/>
            <p:nvPr/>
          </p:nvPicPr>
          <p:blipFill>
            <a:blip r:embed="rId8"/>
            <a:stretch/>
          </p:blipFill>
          <p:spPr>
            <a:xfrm>
              <a:off x="1824120" y="4176720"/>
              <a:ext cx="334440" cy="33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Slide Number Placeholder 5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024A-F3D1-4143-82EF-D95A4A874A9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4" name="Date Placeholder 59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5" name="Footer Placeholder 60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7777-D9A2-4BC3-87DF-BA0B2481027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7" name="Date Placeholder 8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8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roadmap for Ellogon 2.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goals for Ellogon 2.0 are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’s core thread safe (done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 multi-threaded (feasible?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Ellogon &amp; the Tcl thread model can cooperat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dernise GUI (using OO and ttk widgets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30% comple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itially written in iTcl, now ported to TclO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cludes a complete rewrite of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notation Tool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of Ellog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C337-18FF-474A-8264-A7ADD6734E6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on Tools: polymorphism requir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notation tools is a very demanding are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lot of tasks that need annotated corpor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task, may have its own annotation sche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group, may pose different requirements for the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first generation of tools wa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ded in plain Tcl/Tk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icult to adapt/ext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2158-0005-45DE-8F27-67C229DFF6B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67" name="Picture 5" descr="EditAnnotationTools-TokenPosAttribute"/>
          <p:cNvPicPr/>
          <p:nvPr/>
        </p:nvPicPr>
        <p:blipFill>
          <a:blip r:embed="rId1"/>
          <a:stretch/>
        </p:blipFill>
        <p:spPr>
          <a:xfrm>
            <a:off x="674640" y="1125360"/>
            <a:ext cx="7794720" cy="519444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0A21-2C96-462B-BB12-687099643C3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2" name="Picture 8" descr="EllogonEditAnnotationsOnHTML1"/>
          <p:cNvPicPr/>
          <p:nvPr/>
        </p:nvPicPr>
        <p:blipFill>
          <a:blip r:embed="rId1"/>
          <a:stretch/>
        </p:blipFill>
        <p:spPr>
          <a:xfrm>
            <a:off x="1339920" y="1197000"/>
            <a:ext cx="6464160" cy="5040360"/>
          </a:xfrm>
          <a:prstGeom prst="rect">
            <a:avLst/>
          </a:prstGeom>
          <a:ln w="0">
            <a:noFill/>
          </a:ln>
        </p:spPr>
      </p:pic>
      <p:sp>
        <p:nvSpPr>
          <p:cNvPr id="773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0265-27B0-4E41-9389-76BD1A9467A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5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7" name="Picture 6" descr="EditingHierarchies"/>
          <p:cNvPicPr/>
          <p:nvPr/>
        </p:nvPicPr>
        <p:blipFill>
          <a:blip r:embed="rId1"/>
          <a:stretch/>
        </p:blipFill>
        <p:spPr>
          <a:xfrm>
            <a:off x="620640" y="1197000"/>
            <a:ext cx="7902720" cy="5040360"/>
          </a:xfrm>
          <a:prstGeom prst="rect">
            <a:avLst/>
          </a:prstGeom>
          <a:ln w="0">
            <a:noFill/>
          </a:ln>
        </p:spPr>
      </p:pic>
      <p:sp>
        <p:nvSpPr>
          <p:cNvPr id="77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721F-5CC3-4EC8-AC84-0E2452ADA83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2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8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6911-0DE8-4CC5-93DA-6C830AD3B3B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7" name="Picture 2" descr="C:\Users\George\Pictures\ZScreen Images\Text_Visual_Annotation_Editor...-20100728161851.png"/>
          <p:cNvPicPr/>
          <p:nvPr/>
        </p:nvPicPr>
        <p:blipFill>
          <a:blip r:embed="rId1"/>
          <a:stretch/>
        </p:blipFill>
        <p:spPr>
          <a:xfrm>
            <a:off x="14760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8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7356-3EC4-4929-827D-93D339D3670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2" name="Picture 2" descr="C:\Users\George\Pictures\ZScreen Images\Text_Visual_Annotation_Editor...-20100728161803.png"/>
          <p:cNvPicPr/>
          <p:nvPr/>
        </p:nvPicPr>
        <p:blipFill>
          <a:blip r:embed="rId1"/>
          <a:stretch/>
        </p:blipFill>
        <p:spPr>
          <a:xfrm>
            <a:off x="14616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9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C370-9C55-4A04-AF0F-08781616017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7" name="Picture 2" descr="C:\Users\George\Pictures\ZScreen Images\Text_Visual_Annotation_Editor...-20100728161833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D675-6EE1-4747-9475-D667336CE95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5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75C6-76D9-4690-925E-85B1CA1C0E4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5" name="Picture 2" descr="C:\Users\George\Pictures\ZScreen Images\Text_Visual_Annotation_Editor_with_Annotation-based_text_selection...-20100728162045.png"/>
          <p:cNvPicPr/>
          <p:nvPr/>
        </p:nvPicPr>
        <p:blipFill>
          <a:blip r:embed="rId1"/>
          <a:stretch/>
        </p:blipFill>
        <p:spPr>
          <a:xfrm>
            <a:off x="1031760" y="1066680"/>
            <a:ext cx="7080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ssume an application that us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hat happens if it is run under ActiveTcl 8.6 beta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11" name="Picture 2" descr="C:\Users\George\Pictures\Itcl-Crash.png"/>
          <p:cNvPicPr/>
          <p:nvPr/>
        </p:nvPicPr>
        <p:blipFill>
          <a:blip r:embed="rId1"/>
          <a:stretch/>
        </p:blipFill>
        <p:spPr>
          <a:xfrm>
            <a:off x="1752480" y="2209680"/>
            <a:ext cx="6324840" cy="400680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E618-E2DD-4F3A-A376-D594D2599B3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3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4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6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07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0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1B26-0053-4A97-97A6-FF148C5B77F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7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750F-8077-4F51-99D0-8963A072B7B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5" name="Picture 2" descr="C:\Users\George\Pictures\ZScreen Images\Text_Visual_Annotation_Editor...-2010072816194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8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808A-8197-40C9-815D-5312B9CA00E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0" name="Picture 2" descr="C:\Users\George\Pictures\ZScreen Images\Text_Visual_Annotation_Editor...-2010072816195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FE19-5AB3-4025-8B20-C2586DE2842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5" name="Picture 2" descr="C:\Users\George\Pictures\ZScreen Images\Text_Visual_Annotation_Editor...-20100728161957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27" name="Picture 2" descr="C:\Users\George\Pictures\ZScreen Images\Aligned_Text_Visual_Annotation_Editor...-20100728164754.png"/>
          <p:cNvPicPr/>
          <p:nvPr/>
        </p:nvPicPr>
        <p:blipFill>
          <a:blip r:embed="rId1"/>
          <a:stretch/>
        </p:blipFill>
        <p:spPr>
          <a:xfrm>
            <a:off x="117360" y="1219320"/>
            <a:ext cx="8909280" cy="4962240"/>
          </a:xfrm>
          <a:prstGeom prst="rect">
            <a:avLst/>
          </a:prstGeom>
          <a:ln w="0">
            <a:noFill/>
          </a:ln>
        </p:spPr>
      </p:pic>
      <p:sp>
        <p:nvSpPr>
          <p:cNvPr id="82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E6DF-A08C-492B-A03D-A12302F58DC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32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4"/>
          <p:cNvSpPr/>
          <p:nvPr/>
        </p:nvSpPr>
        <p:spPr>
          <a:xfrm>
            <a:off x="3257640" y="12304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4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5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6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37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8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39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0" name="Slide Number Placeholder 12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D2F8-E8D6-408F-A5E4-31F96F2020C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1" name="Date Placeholder 11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2" name="Footer Placeholder 13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44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45" name="TextBox 4"/>
          <p:cNvSpPr/>
          <p:nvPr/>
        </p:nvSpPr>
        <p:spPr>
          <a:xfrm>
            <a:off x="3257640" y="114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6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7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49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0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51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52" name="Picture 2" descr="C:\Users\George\Pictures\ZScreen Images\TextAnnotatorWithEvents.tcl_D...lepELEPVisualAnnotators_-_GVIM2-20100728171340.png"/>
          <p:cNvPicPr/>
          <p:nvPr/>
        </p:nvPicPr>
        <p:blipFill>
          <a:blip r:embed="rId2"/>
          <a:stretch/>
        </p:blipFill>
        <p:spPr>
          <a:xfrm>
            <a:off x="1347840" y="1143000"/>
            <a:ext cx="6448320" cy="5143680"/>
          </a:xfrm>
          <a:prstGeom prst="rect">
            <a:avLst/>
          </a:prstGeom>
          <a:ln w="0">
            <a:noFill/>
          </a:ln>
        </p:spPr>
      </p:pic>
      <p:sp>
        <p:nvSpPr>
          <p:cNvPr id="853" name="Slide Number Placeholder 1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2E9A-CA01-4B00-AD5C-F26FD5B7698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4" name="Date Placeholder 1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5" name="Footer Placeholder 1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205A-31D5-4E65-9A3B-AD0784D6FD3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get/config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dd cget/configure on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need for a complex implementation of configure/cge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 only use them to get/set variable valu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Very easy to add new methods on all objects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verything is a child of oo::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mple implementati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oo::define oo::object method cget {name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set name [string range $name 1 end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y variable $name; return [set $name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get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3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C2E2-92F1-4F1A-821C-91B644E8CE0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4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66" name="Picture 2" descr="C:\Users\George\Pictures\ZScreen Images\Utilities.tcl_DUserspeta...2.0libelepELEPBase_-_GVIM1-20101007182431.png"/>
          <p:cNvPicPr/>
          <p:nvPr/>
        </p:nvPicPr>
        <p:blipFill>
          <a:blip r:embed="rId1"/>
          <a:stretch/>
        </p:blipFill>
        <p:spPr>
          <a:xfrm>
            <a:off x="976320" y="1309680"/>
            <a:ext cx="71913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has another trick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cedure oo::define::&lt;name&gt; extends oo::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mplementing ::oo::define::common allows to use the keyword “common” during class crea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ommon {varname args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&gt;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 … 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Get the name of the current clas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# Export method varnam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Initialise the variab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  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ar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A505-7538-4DD9-9DD4-26DE4878C7B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this happens as iTcl 3.4 is loaded in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compile Tcl from sources (CVS HEAD 27/Jul/10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cl now contains a new iTcl implementation (4.0b4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7" name="Picture 2" descr="C:\Users\George\Pictures\Editor-Itcl4-Main.png"/>
          <p:cNvPicPr/>
          <p:nvPr/>
        </p:nvPicPr>
        <p:blipFill>
          <a:blip r:embed="rId1"/>
          <a:stretch/>
        </p:blipFill>
        <p:spPr>
          <a:xfrm>
            <a:off x="990720" y="3352680"/>
            <a:ext cx="7562880" cy="1162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C:\Users\George\Pictures\Editor-Itcl4-Console.png"/>
          <p:cNvPicPr/>
          <p:nvPr/>
        </p:nvPicPr>
        <p:blipFill>
          <a:blip r:embed="rId2"/>
          <a:stretch/>
        </p:blipFill>
        <p:spPr>
          <a:xfrm>
            <a:off x="1550880" y="1219320"/>
            <a:ext cx="6602400" cy="510516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3E9B-0F2C-4480-9C9A-64AF03797B9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0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1" name="Footer Placeholder 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 common also needs a method to be called from methods accessing common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oo::object method common {args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allclas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self caller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forea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append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pairs 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va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pair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mmon and my cget/configur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do not mix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76B9-C90A-42CE-A767-F9D1FBDABE1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# Define "classmethod"...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lassmethod {name {args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body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} {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Code from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ourier New"/>
                <a:ea typeface="Calibri"/>
                <a:hlinkClick r:id="rId1"/>
              </a:rPr>
              <a:t>http://wiki.tcl.tk/21595#pagetoce30e53a1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argc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4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s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self metho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bod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lse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-code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rror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..."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the name of the current class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its private "my" command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my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object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namespac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::my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Make the connection by forwarding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tailcall forwar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m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lassmethod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1DC2-E4B3-49E0-BD2C-288550F0D78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about inherita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Base::Utilities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userAppDir   {} {...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System::System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superclass ELEP::Base::Utilities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systemConfigurationDir {}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  </a:t>
            </a:r>
            <a:r>
              <a:rPr b="1" lang="en-US" sz="20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[my userAppDir]/Systems/Confi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alibri"/>
              </a:rPr>
              <a:t># systemConfigurationDi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unknown method "userAppDir"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5F13-1183-4A38-9A2C-3576F5947C5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6" name="Footer Placeholder 5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82F1-1586-44C1-89F0-67B69E10289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Ellogon, I don’t think in terms of Tk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fact, I totally ignore them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nly 3 classes available, which represent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oplevel, Dialog, Widget, Ribbon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ibbonToplevel has a Windows Ribbon instead of a menu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me common methods for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ClientAre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utomatic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n for toplevel/dialog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dget for widge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3B98-6D25-48ED-8EA4-5D6D4056B1F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idgets are destroyed when objects are deleted, and vise vers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a way similar to iTk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oplevel/Dialogs generate widgets based on the object nam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bjects of the Widget class need the widget type and na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Widget ttk::button .button ?arg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C925-FEDF-4000-AFCF-B469AAEC5DD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building bloc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ny building blocks that inherit Widge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nly the Tk widget that will contain the block is required (the “parent”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ButtonAnnotator, 1-Click selector, TemplateFiller, TextViewer, HTMLViewer, AllignedTextViewer, etc.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generic class that represents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from 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plits client area into two columns, separated by a ttk::panedwindow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l tools, subclass this class, add another layout if required, and create/place building block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038A-5D56-4725-837F-22A0107B38F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E741-2E32-45E2-BB79-6B6C93DDC43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eating an Annotation Too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Gluing building blocks is easy, but what about the user experie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ets see an example, by creating an Annotation tool that annotates a document with a semantic model (i.e. an ontology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or this task, the bits required are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annotate “properties” found in the tex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properties into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objects into other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118E-4334-4A25-B975-4A3F691E061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8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91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6D30-2600-4FB4-B6E7-AF9396AC32F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iTcl 4.0 has a problem with a variabl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“correct”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variable objectsTree {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ethod CreatePropertiesPage_Objects {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chai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$objectsTree configure -dropenabled 1 -dragenabled 1 \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-dropcmd "$this CreatePropertiesPage_Objects_DropEvent“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reatePropertiesPage_Objec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24" name="Picture 2" descr="C:\Users\George\Pictures\Editor-Itcl4-Console2.png"/>
          <p:cNvPicPr/>
          <p:nvPr/>
        </p:nvPicPr>
        <p:blipFill>
          <a:blip r:embed="rId1"/>
          <a:stretch/>
        </p:blipFill>
        <p:spPr>
          <a:xfrm>
            <a:off x="182520" y="2133720"/>
            <a:ext cx="8778960" cy="4114800"/>
          </a:xfrm>
          <a:prstGeom prst="rect">
            <a:avLst/>
          </a:prstGeom>
          <a:ln w="0">
            <a:noFill/>
          </a:ln>
        </p:spPr>
      </p:pic>
      <p:sp>
        <p:nvSpPr>
          <p:cNvPr id="52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9F0A-2CA7-4120-B329-52C4513A91B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operates with a viewer (text, HTML, Aligned text, Aligned HTML) and allows the user to annotate the selected text with one or more properti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annotation schema is dynamic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createSpecificationSelectorObject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reates  an AnnotationSpecificationSelector objec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show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lls AnnotationSpecificationSelector.show() and waits for an answe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ous schemas are read from an XML file, and presented to the us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ton annotator adapts to the selected schem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24" name="Picture 2" descr="D:\Tcl\Select_Annotation_Characteristics...-20100731080951.png"/>
          <p:cNvPicPr/>
          <p:nvPr/>
        </p:nvPicPr>
        <p:blipFill>
          <a:blip r:embed="rId1"/>
          <a:stretch/>
        </p:blipFill>
        <p:spPr>
          <a:xfrm>
            <a:off x="2152800" y="1600200"/>
            <a:ext cx="4838400" cy="2400480"/>
          </a:xfrm>
          <a:prstGeom prst="rect">
            <a:avLst/>
          </a:prstGeom>
          <a:ln w="0">
            <a:noFill/>
          </a:ln>
        </p:spPr>
      </p:pic>
      <p:sp>
        <p:nvSpPr>
          <p:cNvPr id="925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6622-C143-4F41-ADE5-901A7BED93A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rouping properties/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emplateFiller annotato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gain presents a dynamic schem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w method createSpecificationSelectorObject(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s  an AnnotationAndTemplateSpecificationSelector 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easy is to mix the two annotator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asy, just create the two objects and place them on a single annotation too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y disadvantage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es. The user gets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wo dialog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for configuring a single tool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CB52-E69D-43AA-A069-37418054918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multiple dialog iss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can this be re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new class must be created, which is the concatenation of the two configuration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wo objects must somehow create and use the same configuratio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B27A-D876-4EDD-9831-7DCB4B14B70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6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7267-E0B3-458F-AFE3-A595F9F82C0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iTcl was very easy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 a new class that inherits the two configuration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cl has the ability to call explicitly methods from the class hierarchy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ethod populateDialogFrame() just creates two ttk::labelframe and calls populateDialogFrame() of the two inherited classes with the proper parent frame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TclOO the task is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far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more complex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ou cannot simply inherit both 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F22C-4150-4065-8E29-0073A09E34B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best alternativ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e a new class that behaves as both configuration selectors, and drives instances of the two selectors intern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methods of the two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the public variables of both objects (so as cget/configure to work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F8F3-71E5-491B-B8B5-26E650C18A9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variable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clare all variables as “automatic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in class, with the “variable” keywor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Use “upvar” to link variables between tw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B277-ADCF-492E-9EC6-752B084370B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58" name="Picture 4" descr="C:\Users\George\Pictures\ZScreen Images\AnnotationAndTemplateSpecificat...libelepELEPViewerBase_-_GVIM3-20101007190655.png"/>
          <p:cNvPicPr/>
          <p:nvPr/>
        </p:nvPicPr>
        <p:blipFill>
          <a:blip r:embed="rId1"/>
          <a:stretch/>
        </p:blipFill>
        <p:spPr>
          <a:xfrm>
            <a:off x="1523880" y="2590920"/>
            <a:ext cx="609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method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ethods from both contained objects must be exposed - through “unknown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args} {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  ## Try to call the aggregated objects..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next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unknow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282F-63BD-466D-A76E-B809C43C94B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, are all problems 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class stores state information in the configuration array of the application, using a key based on the class name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saveState {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restoreState {</a:t>
            </a:r>
            <a:r>
              <a:rPr b="1" lang="en-US" sz="1800" spc="-1" strike="noStrike">
                <a:solidFill>
                  <a:srgbClr val="2e8b57"/>
                </a:solidFill>
                <a:latin typeface="Courier New"/>
                <a:ea typeface="Calibri"/>
              </a:rPr>
              <a:t>fr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annotation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templ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restoreStat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65" name="Picture 2" descr="D:\Tcl\Select_Annotation__Template_Characteristics...-20100731081105.png"/>
          <p:cNvPicPr/>
          <p:nvPr/>
        </p:nvPicPr>
        <p:blipFill>
          <a:blip r:embed="rId1"/>
          <a:stretch/>
        </p:blipFill>
        <p:spPr>
          <a:xfrm>
            <a:off x="480960" y="2138400"/>
            <a:ext cx="8182080" cy="258120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blems solve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C5ED-D0A1-4E3C-9631-97DA11DCCE3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8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about efficiency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s there a problem using unknown to “distribute” method calls to the proper object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don’t know, I haven’t measur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assumed that there is a penalty, so I explored alternatives before implementing a similar approach for “merging” Button Annotator &amp; Template Fill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I finally did, was to create a new class which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only ButtonAnnota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various methods of TemplateFiller are copied/extend methods of the new 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us “next” works, as there is only a linear hierarchy to follow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configuration selector dialog object is single/comm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430D-3A83-40CD-9DD1-0E8AF926FFD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object variables not support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 seems no…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but, object naming wa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erna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4.0 has been actively maintained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ignificant progress since last test (6-8 months ago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Does not crash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few “rough edges” remai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upport for iTcl object variables seems missin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tatus of iTcl next gener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Unknown. Not working either in previous tes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63E7-23E5-41B7-BB6D-98C33F4B687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43E5-DAAA-4418-ABDF-438C7FB69D8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clOO: “gray” are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ixi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ve used “mixin”s a few times, but what are really “mixin”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at happens with colliding method names, the constructor and inheritance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herit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do you inherit from classes whose constructors take different argument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same issue can occur with plain methods and “next”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s “next” limited, and an additional invocation method is requir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E626-36B7-4A9F-BB8F-B330C39C72A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acked support for unknow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d to use the “@itcl …” variable naming for serialising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fo method is error-pron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9463-76E2-4244-BAD5-66AA30EA27C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support for calling a specific class method from the super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ables cannot be initialised without a construc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re traces support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n constructor arguments be recorded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hould things like classmethod &amp; common be moved from the wiki to the Tcl cor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5A57-6071-4815-AF15-3CC97AA685C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0880" y="316224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7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8" name="Slide Number Placeholder 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E4D9-E6F3-481F-8520-CB984F48D1AC}" type="slidenum">
              <a:rPr b="0" i="1" lang="el-GR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9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ternatives for running the application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ait until iTcl 4.0 is read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ll it support 3.4 object variable naming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 the code from iTcl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m, 41 classes? ~20.000 lines of cod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uch a task needs to be automat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tick to Tcl 8.5 and iTcl 3.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 what happens with open source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A12E-0F8B-4D75-AFF5-E439C10258B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1076-9CE4-425F-84EC-6C19EEAD2C9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medium sized application: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pen source (LGPL),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llogon.or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ticking to Tcl 8.5 is not an opti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 ~</a:t>
            </a: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480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iTcl classes need to be ported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“variable” syntax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“my” keyword when calling method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method exporting conven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ere is TclOO document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21AB-484B-4011-953A-09DE319206D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eorge</dc:creator>
  <dc:description/>
  <dc:language>en-US</dc:language>
  <cp:lastModifiedBy>George</cp:lastModifiedBy>
  <dcterms:modified xsi:type="dcterms:W3CDTF">2010-10-13T13:46:57Z</dcterms:modified>
  <cp:revision>231</cp:revision>
  <dc:subject/>
  <dc:title>Itcl and TclOO</dc:title>
</cp:coreProperties>
</file>