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9EAB-AEEF-44DE-B94D-E6C0D0743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873D-5C7C-491D-BF55-1BD37351F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F25D-3D5E-4D09-97B8-B8AB0BC82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A8C5-3AC1-4E8A-8106-34B47CFBC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9DF0-B5D4-4CF0-A6BB-609B254E4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A17A-2566-4FD8-A946-2DCE679A1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90C9-E7E2-4D29-B18B-DF8BE1337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26F6-182D-44BA-915A-C83C5A6CF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B21C-DD6D-4810-859A-610496DEA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38C8-1C3C-486C-BE25-4C7E4ED3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DCF6-7542-47D7-A647-267569CB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05EE-0F33-47D3-B4B2-CDACBB91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8B007-98F6-40E5-809E-A7A7A0D4F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: final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ding the unnecessary 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dbdsdc { uplo compq d e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list $dnew $u $vt $q $iq $info]  ;# Leaving out "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types of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rs (mostly floating-point and integ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dimensional arrays (vecto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dimensional arrays (matri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: mapped onto Tcl lists and n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ng the wrapper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guish the various roles of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 data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arguments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s of arra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ling the 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ilerplate code (integer array v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laration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ng *v; int size__v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isa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WrapCopyIntListToArray( interp, objv[1], &amp;v, &amp;size__v ) != TCL_OK 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cl_SetResult( interp, “Argument 1 must be a list of integers”, NULL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-up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kfree((char *)v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 of arg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tran routine (arrays x and w are returne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subroutine lagzo( n, x, w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integer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double precision x(n), w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wrapp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rapfort::fproc ::Specfunc::laguerreZeros lagzo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n  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x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w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de {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gzo( &amp;n, x, w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…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dditional code: return arrays x and w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cal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f arguments can not be deduced automa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knowledge of C and Fortran and interfacing the two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ing more than one result (as a list) requires extra code – not handled automatically y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dreds of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most interest: the “driver”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are well described – automation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handcrafting still required (to make the interface more Tcl-lik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PACK: user-defined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ing zeros for a vector-valued fun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hybrd1(fcn,n,x,fvec,tol,info,wa,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nfo,l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t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,wa(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ternal fc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unction is implemented via a user-defined subrout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fcn(n,x,fvec,ifla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fl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lculate the functions at x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his vector in fve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rresponding Tcl proced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fcn {x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... $x too far away ...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–code error “Unacceptable solution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fvec ;# Vector-valued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 via Wrapfort: subroutine fcn(n,x,fvec,ifl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apfort::fexternal fc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tra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n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x      {in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fvec   {out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iflag 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proc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vec   res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nerro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*iflag = -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ing the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ng the wrapper co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Ftcl and Wrapf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cl is a project on SourceForge to combine Tcl and Fort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fort is part of that project, focusing on generating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avoid all C programm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ftcl.sf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: Tcl lists may not be the best representation in all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C libraries (akin to Critc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whole programs – develop a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such libraries makes this functionality available to Tcl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lso makes Tcl’s flexibility available to engineers and scient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PACK: Linear algebra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func: Special mathematic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PACK: least-squares minim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ng multidimensional integrals (Strou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TW: Fourier trans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ing the interf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typical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fit to Tc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AIRYA(X,AI,BI,AD,B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Purpose: Compute Airy functions and their deriva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Input:   x  --- Argument of Airy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Output:  AI --- A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I --- B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D --- A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D --- B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Routine call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JYIK for computing Jv(x), Yv(x), Iv(x)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Kv(x) with v=1/3 and 2/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LICIT DOUBLE PRECISION (A-H,O-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 -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 ai_ bi_ ad_ bd_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i_ 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i_ 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d_ 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d_ 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 variable names – rather unus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2: Return a list of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[list $ai $bi $ad $bd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3: Separat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A {x} {      proc airyB {x}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$ai            return $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DBDSDC( UPLO, COMPQ, N, D, E, U, LDU, VT, LDVT, Q, IQ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WORK, IWORK, INFO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routine (version 3.2)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is a software package provided by Univ. of Tennessee,   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Univ. of California Berkeley, Univ. of Colorado Denver and NAG Ltd..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November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Scalar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ARACTER          COMPQ, UP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NFO, LDU, LDVT,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Array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Q( * ), I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  D( * ), E( * ), Q( * ), U( LDU, * 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VT( LDVT, * ), 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argument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are array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provide 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output arg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ed in Tc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if we use lists to store th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05:07:48Z</dcterms:created>
  <dc:creator>Computer Services</dc:creator>
  <dc:description/>
  <dc:language>en-US</dc:language>
  <cp:lastModifiedBy>Computer Services</cp:lastModifiedBy>
  <dcterms:modified xsi:type="dcterms:W3CDTF">2010-06-04T04:54:37Z</dcterms:modified>
  <cp:revision>15</cp:revision>
  <dc:subject/>
  <dc:title>Wrapping Fortran libraries</dc:title>
</cp:coreProperties>
</file>