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F51D-7BE3-4809-9D56-0665ED471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7EBC-E1D3-4D46-BCE8-0292F5C5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1131-B8AB-47EB-A2D9-EF89D6732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26FB-5284-4D84-A854-32B5F0F68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BABB-C27E-4763-9B78-597C5B10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DDE3-09DB-425E-ADD5-F5AED4CC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D174-4A5F-4793-A7BB-6E8524AB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51D9-B8CE-429B-82D5-178A3DC7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FACE-E205-4B81-B330-837F8618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3DC4-1F4A-4CBE-A185-CBB3902E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D279-4770-40F4-BA48-81B4D951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7187-C8F0-48FB-A759-3664728C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C148-EEE2-44A7-B1AA-BAD90F8A6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, Past – Present - 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/Paul Oberme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bui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support Tcl &lt;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test 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Obermeij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                     ’94-’97     http://hwr.nici.kun.nl/~miami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G, JPEG, T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interface/stu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iami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19540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: P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code borrowed (stolen) from:             Joel Cr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reading/writing from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support for PNG user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: JP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itial implementation, using Tomas Lane’s JPEG library (version 6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replaced with Tomas Lane’s ve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both libjpeg 6a and 6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: TI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libtiff library (Sam Leffn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 and libj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09680"/>
            <a:ext cx="761976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ary dependency (Img 1.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514600"/>
            <a:ext cx="21333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514600"/>
            <a:ext cx="19051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6280" y="2691000"/>
            <a:ext cx="1347120" cy="48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572000"/>
            <a:ext cx="17524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541008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65760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419720"/>
            <a:ext cx="19051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553080" y="3276720"/>
            <a:ext cx="152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257800" y="5029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2767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33526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76720" y="42670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1523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ted G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script (idea stolen from X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(8.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i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14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f (using ghostscri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Tcl_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release: 1.2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1295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’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.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 1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: re-organisation of bu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o sourcefo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: xbm, xpm, ico, pcx, sgi, sun, t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Img 1.3.1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5T14:41:55Z</dcterms:modified>
  <cp:revision>6</cp:revision>
  <dc:subject/>
  <dc:title>PowerPoint Presentation</dc:title>
</cp:coreProperties>
</file>