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45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85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53CCFF-BFE5-4F33-AC87-0D3DC31A3A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E405-D245-45B2-A2EC-7AFECE989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25C0-B9C1-4E1C-9247-241E8783B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207B-1B19-4474-ADC6-D2A399658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55EE-CA37-454D-BC88-3F5BAF270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21E8-EB47-452E-AB46-2FF95616B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296C-671B-4547-A433-5A9431D2A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D215-9E23-47CC-9447-552278284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D71A-E16E-427D-8B0B-4B9824DA9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768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5190-910D-4A07-92B3-EFA05C6CB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E809-6ACE-434B-AB52-FB9117C7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C32C-33D4-41D6-8BB0-121AEF18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1519-F78D-4BA8-9B80-1E0354E5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90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21F108-CDFA-403C-A41A-CC8FC8559A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SQLite in Tcl in SQL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 Tcl/Tk script for displaying and maintaining an SQLite database, stored in an SQLit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 wind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87572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Table Dis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7240" y="1828800"/>
            <a:ext cx="86202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tand-alone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vert between v2 and v3 file form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table from or export table to delimited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rst row can be column names o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orted data can have variable number of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db element from or export db element to text file (like ONECOLUMN meth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ecute a single line of SQL or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Run 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855880" y="1828800"/>
            <a:ext cx="434664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cision to Put showtable in Database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pired by the “Database as Program” section of DRH's “SQLite and Tcl” paper, but not an implementation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nted to put a functional block (the chief proc for a function and its supporting proc's) in one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't put header and body in separate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function can't call support proc unless its functional block is known to have been lo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269640"/>
            <a:ext cx="90723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EB: Impacts of Putting showtable in Database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29920" y="1600200"/>
            <a:ext cx="907236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TTACH capability became mand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only one file can be displayed/edited, that one slot can't be taken up by the displaying program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o data arrays as 2D (attach name and original ind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d to implement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arching routine needed to look at all Tcl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 matching brackets, braces, and paren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lace and Replace All, with and without confirmation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eck for infinit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editrunt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57400" y="1233360"/>
            <a:ext cx="6580080" cy="60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00200" y="1442880"/>
            <a:ext cx="7467480" cy="56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Bootstr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28480" y="1545840"/>
            <a:ext cx="9072720" cy="576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ackage require Tk; package require Tktable; console s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Create namespace for all "globals" and pro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amespace eval ::GEB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3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dbfile showtable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qlite3 sq $db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::GEB::attachfilename(main) $dbf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roc evalsqlitetcl t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plevel #0 [join [sq eval "select tcl from $table limit 1"]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valsqlitetcl main_att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ditrunt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attachit s2008 /irisdata/2008symp/2008symp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_attach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53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in cor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ose needed before “unknown” is se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t up window and arrays for main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ble names, columns in each table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end “unknown” proc handler to look in databas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 table with the name of the needed proc exists, load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 loading defines the proc, execut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wise, exec original “unknown” hand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Presentation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he project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its goals have b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rly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olution: tkTable, storing script in SQLit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otup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st and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tential users and licen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ve demon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ummary of Development 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azingly few gotchas considering my level of knowledge of Tcl/Tk/SQLite when I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often took longer to decide what I wanted to do and how I wanted it to work than to implemen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very useful tool. For me. It fits my way of thinking. But for others it may be too idiosyncrati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Future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wildcards in sear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editing a development version while executing stable version (row vs colum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witch to 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lement full text search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cilitate displays of 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otential U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54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extreme: Tcl developer who does not care about SQ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eivable, but many more facilities available else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extreme: SQLite user who does not care about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lightly more reasonable, but again, other tool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ppy medium: User with some data and some scripts, who wants to keep and use them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Licen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28480" y="1463760"/>
            <a:ext cx="907272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nded to be released to Public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It would feel wrong to be more restrictive than SQLite itsel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QLite blessing or equival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do good and not e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find forgiveness for yourself and forgive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share freely, never taking more than you g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rther development encouraged, especially if kept pub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available--inquire wit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rry Snyder  mesmerizerfan@g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(evolving) 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uce dependence on proprietary s/w and data formats (MS Access, dBase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venient scripting language, run on Linux and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velop single package for all my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table/column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and edit table cont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/edit/execute Tcl/SQL code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 the program itself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d functions as the need arises (ongo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sign Dri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velop increment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ep data 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w generated SQL before COMMI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allow many combinations of Alter Table functions in a single p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ept slower scree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nimize bootstr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to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57400" y="1663560"/>
            <a:ext cx="6718320" cy="542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botto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97040" y="1685880"/>
            <a:ext cx="6743520" cy="463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Alter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98680" y="1600200"/>
            <a:ext cx="718812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edittab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0" y="1384200"/>
            <a:ext cx="5537160" cy="570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Change to Tk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iven by desire to improve l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table is editable, in its own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lved potential problem of displaying large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cell entry value from an individual SEL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but s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ither specific potential problem nor iron-clad bulletproofing has been 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