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4A41-0950-4795-A87D-AB3CD45BB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01D6-29C5-47F8-8EA0-8BE5ABFA7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0D1E-2807-4798-800F-7C62D3515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5384-0FCA-44CD-A551-EC0DA7E77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5FA9-4B2C-4B81-83A2-422FF557D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8BB4-0F10-4093-B724-67721E556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4BA7-2F91-49D1-821C-FC7B50AF2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BC99-0682-411F-9BD7-C436FC216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4AC4-5468-4B56-9501-792EE5428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9E3C-0463-4E1E-8B34-4B3EFB164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43B8-18F0-4FA6-982D-6F7A7916D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40A7-B9C0-4A51-86AA-67F5B7ED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349A6-EFFC-47A5-8C2C-6AB78B9B94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with Tc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 Nijtm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Tcl 2008, june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s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set EQP {L {U1 5} {U2 1000}} \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[L {F  3.5} {B 45 46 47}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:secs::set EQP {U2 5 100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fore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foreach v {L {U1 5} {U1 6}} {\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foreach v {U1 5 6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quipment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array EQ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rray set EQP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3 45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ftware {L {A CONCP1} {A 4.433}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c EQPconnect {} …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c EQPS&lt;num&gt;F&lt;num&gt; {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w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.sourceforge.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me (www.hume.co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lib (japanese) 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t started: automatic t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 message protocol    host &lt;-&gt; equi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storage in arr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CS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miconductor Equipment Communications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sages over RS-232 or TCP/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-byte header followed by 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est/Rep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message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2666880"/>
            <a:ext cx="64771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             dev     cmd     sub                id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668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1972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5780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3352680"/>
            <a:ext cx="65530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………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4191120"/>
            <a:ext cx="3886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d odd:    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d even:   reply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bit:  reply expected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mess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: bin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: ASC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1, U2, U4, U8, I1, I2, I4, I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4, F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62320" y="5410080"/>
            <a:ext cx="38098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mt   len      ……………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988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2819520"/>
            <a:ext cx="72388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0 1 2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{this is a string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 {B 0 1 2 3} {A {this is a string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2 100 2000 3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his is a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1 1000 2000  -1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I2 1000 2000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S6F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 S6F5 {sock dev cmd sub msg id}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:secs::write $sock $dev [expr {$cmd+1}] $sub [list B 0] $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wr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 $msg $sub cb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 cb1 {sock dev cmd msg sub id}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cmd1 …..;set msg1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1 $msg1 $sub $cb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 cb2 {sock dev cmd msg sub id}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cmd2 …..;set msg2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2 $msg2 $sub $cb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19810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in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init host port array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up conn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CIS</cp:lastModifiedBy>
  <dcterms:modified xsi:type="dcterms:W3CDTF">2008-06-07T05:51:42Z</dcterms:modified>
  <cp:revision>6</cp:revision>
  <dc:subject/>
  <dc:title>PowerPoint Presentation</dc:title>
</cp:coreProperties>
</file>