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move the slide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687D-5E9B-4115-839C-470E8D5E2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1760" y="40125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9A9D-D1BD-4FC3-9ED0-F12DF6C70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3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725A-B52A-4ECC-85B0-168494068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2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3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1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2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3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C324-6C44-49CB-A79A-38B65B572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4234B-D31F-48AF-ABD7-D546D7B59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15044-62C0-4623-9779-2F6FAA14B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62E14-DEAD-4BEF-A661-D39D4EE3E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95314-4FB4-4A07-94F1-4A59EAB01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B5F72-EEDE-4EF3-A01F-D67C4C84D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1760" y="533520"/>
            <a:ext cx="769284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8D282-FC33-4175-AF2B-1320793D2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6EA15-9F24-40A0-B550-29B1E3950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EDBD-9DCD-432C-A83C-EBDEEA202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3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C9DEC-DAE7-45F7-B842-396462527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61269-9EE9-4F8F-983C-D4F43B93C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1760" y="40125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F8971-6F8E-41D9-BD2A-1FF0A0816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3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5F5EA-897A-409A-938E-B02AEA829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2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3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1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2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3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9E39A-88E6-4F8B-9E86-F06600E75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56A9-9DFD-4272-AFD0-50850D28A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DD51-50C4-4E7A-B6FF-37EB8FE16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41E6-B5DB-44EF-94C1-D10B6E9A2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1760" y="533520"/>
            <a:ext cx="769284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41B9-B7DA-4C0B-B31A-FCE590B95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9B2C-2754-424F-B475-53896BF43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3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74CF-7F07-4A02-9602-9A977654E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1359-B583-43B9-82E0-85A6838DF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391080"/>
            <a:ext cx="20541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320" y="640368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400440"/>
            <a:ext cx="15969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6EAC30-BCDB-416B-B15F-58FC18AE73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2120" y="1709640"/>
              <a:ext cx="7696080" cy="180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856800"/>
            <a:ext cx="7769160" cy="22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62120" y="6391080"/>
            <a:ext cx="20541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352320" y="639108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858000" y="6391080"/>
            <a:ext cx="15969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2EB2F0-4293-4CF8-86B5-556AC058A2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153280" cy="22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336666"/>
                </a:solidFill>
                <a:latin typeface="Arial Black"/>
              </a:rPr>
              <a:t>Networked Digital Whiteboard</a:t>
            </a:r>
            <a:br>
              <a:rPr sz="2400"/>
            </a:br>
            <a:r>
              <a:rPr b="0" i="1" lang="en-US" sz="2400" spc="-1" strike="noStrike">
                <a:solidFill>
                  <a:srgbClr val="336666"/>
                </a:solidFill>
                <a:latin typeface="Arial Black"/>
              </a:rPr>
              <a:t> with </a:t>
            </a:r>
            <a:br>
              <a:rPr sz="2400"/>
            </a:br>
            <a:r>
              <a:rPr b="0" i="1" lang="en-US" sz="2400" spc="-1" strike="noStrike">
                <a:solidFill>
                  <a:srgbClr val="336666"/>
                </a:solidFill>
                <a:latin typeface="Arial Black"/>
              </a:rPr>
              <a:t>Handwritten-Symbol Interpreter and</a:t>
            </a:r>
            <a:br>
              <a:rPr sz="2400"/>
            </a:br>
            <a:r>
              <a:rPr b="0" i="1" lang="en-US" sz="2400" spc="-1" strike="noStrike">
                <a:solidFill>
                  <a:srgbClr val="336666"/>
                </a:solidFill>
                <a:latin typeface="Arial Black"/>
              </a:rPr>
              <a:t> Dynamic-Display-Objec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1c3938"/>
                </a:solidFill>
                <a:latin typeface="Arial"/>
              </a:rPr>
              <a:t>Atsuhide Kobash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1c3938"/>
                </a:solidFill>
                <a:latin typeface="Arial"/>
              </a:rPr>
              <a:t>Henry M. Gunn High Sch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1c3938"/>
                </a:solidFill>
                <a:latin typeface="Arial"/>
              </a:rPr>
              <a:t>Palo Alto, Californ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1c3938"/>
                </a:solidFill>
                <a:latin typeface="Arial"/>
              </a:rPr>
              <a:t>September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2 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(Augmented by participant)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1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02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xt and arrow added by a particip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684680" y="1905120"/>
            <a:ext cx="3772080" cy="40370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3 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(Augmented by participants)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1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50496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vas window with scrollbars added by another particip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4 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(Augmented by participants)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1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5812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inbox added by the participant who created the canvas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inbox linked to a variable that affects the output (quadratic curve) on the added canv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684680" y="1905120"/>
            <a:ext cx="3772080" cy="40370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5 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(Augmented by participants)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1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3526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xt widget window with a scrollbar added by another particip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684680" y="1905120"/>
            <a:ext cx="3772080" cy="40370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Master Controlle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27636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by the prese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ent side controller has no page-change cap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114800" y="2286000"/>
            <a:ext cx="4314960" cy="272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Draw/Write Tool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946240" y="2232000"/>
            <a:ext cx="3324240" cy="128592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62120" y="3998880"/>
            <a:ext cx="7694640" cy="19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for all drawing and writing including the handwriting of symb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Hand-Written Symbol Interprete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411480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voked by the Draw/Write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ze and color set by the Draw/Write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tion set by mouse click on the target pl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5257800" y="2057400"/>
            <a:ext cx="1714680" cy="222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Widge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49528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ree types of wid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ents selector helps quick compos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inbox can be linked to a variable that changes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5715000" y="1905120"/>
            <a:ext cx="2741760" cy="40370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5943600" y="1905120"/>
            <a:ext cx="224172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Canvas created by Widge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525680" y="1905120"/>
            <a:ext cx="2241360" cy="40370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4761000" y="2017800"/>
            <a:ext cx="3619440" cy="38098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3886200" y="3886200"/>
            <a:ext cx="685800" cy="1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Spinbox created by Widge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525680" y="1905120"/>
            <a:ext cx="2241360" cy="40370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4761000" y="2017800"/>
            <a:ext cx="3619440" cy="38098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3886200" y="3886200"/>
            <a:ext cx="685800" cy="1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What is it?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696080" cy="31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l/Tk-based whiteboard presentation tool with unique functiona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60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dience can participate in the 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60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60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ables quick construction of complex objects for displaying during 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Details on the Three Functions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464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ndwritten symbol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I and Widget Cre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Behind the Networking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f TCL’s network-related commands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25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devel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f custom header to indic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es of data  (multiple combinations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ngth of each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w to handle each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wner ID and sequence inde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onal extra information fie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conomy on transmitted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 of wish by both server and clients reduces the amount of transmitted code  (suitable for networking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the widgets created by the Widget Creator, only the specifications entered in the Widget Creator are transmit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Behind the Hand-Written-Symbol Interprete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algorithms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perfect or even near human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lots of CPU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f C module needed for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ll under development and modules for a small number of symbols develop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nt for the converted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s from Tex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the symbols not available from Tex, custom raster symbol creation requi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Behind the GUI and Widge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7696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GUI Tk-ba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rits of T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y and quick to create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all amount of code fits well for trans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y to inspect the transmitted code in development stage, since it is written in human readable scrip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fe independent operation for each participant guaranteed by multiple interpr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Current Problems</a:t>
            </a:r>
            <a:r>
              <a:rPr b="0" lang="en-US" sz="19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1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all slide creation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akes more time to make presentation pages than the conventional presentation tool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phic input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ore variation need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dget cre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ider variety of widgets need to be handl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e interpreter de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Use of threaded system desirable for smooth opera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-written symbol interpre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verage of more symbols and better recognition algorithm need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functiona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age advance/backup capability on the client side without affecting  the display of the serv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Conclusion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state still version 0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5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gh edges exist. Refinement need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ly TCL/TK knowledge required to compose presentation slides.  (Less so for clients to add  objects.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5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convenience modules needed to compete directly with PowerPoint and Impr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potential to become a useful tool for users in various fields, not just educ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5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other tool can enable networked two-way interactive presentation with dynamically manipulable objec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Motivation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9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r sit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ucational presentation in classes and confer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ientific subjects: math, physics, chemistry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s with the conventional presentation tool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owerPoint, Impress, etc. 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way information 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te (off-site) audience cannot particip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ck of tools to quickly cre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x symbol stru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namic display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:  Our new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w Function 1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2120" y="2209320"/>
            <a:ext cx="7696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way information 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able audience to add objects on the scre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s of objects to be dynamically creat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s, arr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s, ov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dgets, both static and dynamically manipu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w Function 2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22856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through network with participants at bo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entation 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te lo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91404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tworked Two-Way Presentation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362320"/>
            <a:ext cx="1143000" cy="114300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79440" y="2322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143000" y="2666880"/>
            <a:ext cx="944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resenter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477120" y="2362320"/>
            <a:ext cx="1143000" cy="114300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209680" y="2971800"/>
            <a:ext cx="426744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553080" y="2666880"/>
            <a:ext cx="1003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articipant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2286000"/>
            <a:ext cx="1371600" cy="53352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Ob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505320" y="3124080"/>
            <a:ext cx="1371600" cy="53352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876920" y="3352680"/>
            <a:ext cx="9144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590920" y="2514600"/>
            <a:ext cx="91440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066680" y="5029200"/>
            <a:ext cx="1143000" cy="114300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143000" y="5334120"/>
            <a:ext cx="1003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articipant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4419720"/>
            <a:ext cx="1143000" cy="160020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ccc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886200" y="4495680"/>
            <a:ext cx="68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55800" y="4952880"/>
            <a:ext cx="119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llowing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657600" y="4876920"/>
            <a:ext cx="1143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86200" y="533412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SCII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inary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676520" y="3505320"/>
            <a:ext cx="1440" cy="1523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505320" y="4114800"/>
            <a:ext cx="135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mitted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w Function 3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bility to efficiently and quickly construct complex symbol structures  (for math, logic, scientific symbols) by hand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w Function 4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bility to quickly create widgets including dynamically manipulable on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1 (Original)</a:t>
            </a: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02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k-based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full-screen m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684680" y="1905120"/>
            <a:ext cx="3772080" cy="40370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</dc:creator>
  <dc:description/>
  <dc:language>en-US</dc:language>
  <cp:lastModifiedBy>Admin</cp:lastModifiedBy>
  <cp:revision>0</cp:revision>
  <dc:subject/>
  <dc:title>Networked Digital Whiteboard  with  Handwritten-Symbol Interpreter and  Dynamic-Display-Object Creator</dc:title>
</cp:coreProperties>
</file>