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3C8C-24FF-481A-B602-BF922DFCE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ED22-646C-468B-9800-458707C6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9DAC-4025-4E6B-8731-40370C178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570C-C97F-46B9-B021-3D83E659D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0171-B6B6-4B89-9FD2-11524ED5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764E-E0EE-45B6-BE76-5D48C17A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7811-758B-4F07-AC21-FAC5178F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B1C0-4203-439E-8625-0F2E0F95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8346-D842-4F30-B74E-CBB3FF32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FAA0-184E-4C90-87A6-70976A7A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57F5-E179-4570-96B4-C89C29D5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E6B6-256F-4709-A898-616FD736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75D3-5670-471B-B00B-6115DFEA5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with T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set EQP {L {U1 5} {U2 1000}} \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L {F  3.5} {B 45 46 47}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:secs::set EQP {U2 5 10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fo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L {U1 5} {U1 6}} {\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U1 5 6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pment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array EQ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ray set EQP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3 45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ftware {L {A CONCP1} {A 4.433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connect {} …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S&lt;num&gt;F&lt;num&gt; 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.sourceforge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e (www.hume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lib (japanese)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automatic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message protocol    host &lt;-&gt;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storage in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CS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conductor Equipment Communications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over RS-232 or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-byte header followed by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666880"/>
            <a:ext cx="64771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             dev     cmd     sub                id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352680"/>
            <a:ext cx="6553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191120"/>
            <a:ext cx="3886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odd:    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even:   reply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bit:  reply expect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bi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ASC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, U2, U4, U8, I1, I2, I4, I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4, F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410080"/>
            <a:ext cx="3809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mt   len      …………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8195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0 1 2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{this is a strin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{B 0 1 2 3} {A {this is a string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2 100 2000 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his is a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1 1000 2000  -1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I2 1000 2000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6F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 S6F5 {sock dev cmd sub msg id}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:secs::write $sock $dev [expr {$cmd+1}] $sub [list B 0] $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 $msg $sub c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1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1 …..;set msg1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1 $msg1 $sub $c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2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2 …..;set msg2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2 $msg2 $sub $c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i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init host port array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7T05:51:42Z</dcterms:modified>
  <cp:revision>6</cp:revision>
  <dc:subject/>
  <dc:title>PowerPoint Presentation</dc:title>
</cp:coreProperties>
</file>