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36571"/>
        <c:axId val="53749131"/>
      </c:barChart>
      <c:catAx>
        <c:axId val="92136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49131"/>
        <c:crosses val="autoZero"/>
        <c:auto val="1"/>
        <c:lblAlgn val="ctr"/>
        <c:lblOffset val="100"/>
        <c:noMultiLvlLbl val="0"/>
      </c:catAx>
      <c:valAx>
        <c:axId val="53749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36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042-0812-48EB-9C3A-1FF1F25E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535-5FFF-4D0A-B45F-EFFF8CBE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CD1-A7E7-4918-B514-23C705A3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877-BC3D-4BEB-9C01-323C6A6B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CD3-4195-41CF-B821-68B11077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B55-7A52-4A5B-9AE9-21E2D163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F9B-B0A7-42D7-AA00-616675C3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4F4-61C9-4051-901C-4DD983E9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611-00F6-4AB2-98D8-C049FF50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CBB-7585-4FA0-8740-C8AC8AE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9D3-73A7-431D-8DE3-9273E407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C65-3320-42D0-8C38-C9ABBE7F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EA7ED-738C-4A4A-ADBD-C761A6EE9D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