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05495"/>
        <c:axId val="56973477"/>
      </c:barChart>
      <c:catAx>
        <c:axId val="84705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73477"/>
        <c:crosses val="autoZero"/>
        <c:auto val="1"/>
        <c:lblAlgn val="ctr"/>
        <c:lblOffset val="100"/>
        <c:noMultiLvlLbl val="0"/>
      </c:catAx>
      <c:valAx>
        <c:axId val="56973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05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3D5-875C-4558-9961-AADC8754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721-291D-4E17-91EC-93EA12B3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A78-D1DE-4603-8B40-E33C534B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340-E1C2-4511-989B-BBBD785F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B65-570B-4633-B845-7309B72A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A54-5E04-4E50-ACCD-1454EB2D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C6F-D3D8-4E7C-825F-C5F4E23B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7ED-AA20-480D-A261-4C1346DD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B3F-A3DE-4BE6-BC14-1E3BEFD8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245-6917-4B2E-8D9B-BD2FC75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A1A-FA32-4115-A474-04213488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7EC-3F58-4E34-91AD-3CE753F4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3EFD1-01C5-4443-9E46-C970E9AF06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