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083595"/>
        <c:axId val="34001690"/>
      </c:barChart>
      <c:catAx>
        <c:axId val="110835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001690"/>
        <c:crosses val="autoZero"/>
        <c:auto val="1"/>
        <c:lblAlgn val="ctr"/>
        <c:lblOffset val="100"/>
        <c:noMultiLvlLbl val="0"/>
      </c:catAx>
      <c:valAx>
        <c:axId val="340016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0835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5C1F-C334-479C-9EDA-A164DF5EF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B852-2FBF-4A72-986B-80065F15C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25A5-9B3B-46D3-8FE1-3825A26A8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388E-9E7B-4067-AE22-4477F9921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7EFD-9F6B-4E49-AB4C-1E2E0378C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C8EF-0752-45DB-ADC5-55FE5B3F4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F2F9-4B8F-4F60-B273-DE37417D5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A4F7-F19B-47E2-B7F0-A435C7739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DF72-B85A-49D6-8C60-933407AB4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ECA0-A620-4FCE-AF9A-1B18DC7FA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FA79-7938-4F2C-843B-63F95C43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8440-8B49-4C62-B6F7-7C26DA707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58CDE7-C9E9-42FF-80AE-80F513AAB62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