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15764"/>
        <c:axId val="14974743"/>
      </c:barChart>
      <c:catAx>
        <c:axId val="85515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74743"/>
        <c:crosses val="autoZero"/>
        <c:auto val="1"/>
        <c:lblAlgn val="ctr"/>
        <c:lblOffset val="100"/>
        <c:noMultiLvlLbl val="0"/>
      </c:catAx>
      <c:valAx>
        <c:axId val="14974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15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C19-8F8C-4AF9-B0A0-C97CD47C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AFD-0FA7-4D77-A269-13191423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5C6-BC0B-4FAE-9237-D97BBFF1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9D0-F4D2-4D6A-B18C-66C66C35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B7F-9FCC-484E-89AE-4F46DD7C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F43-3084-4099-8C19-3B376B7F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6E0-7EE0-486F-9B6E-59865002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C5A-26BD-4B38-B471-D3DF0BAD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A1E-97BA-44B4-B4EE-DCEEC3FC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AF8-B4D2-47A5-A1E9-2A135ED9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2C8-2978-4F00-B0B0-01E72516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213-8CEB-40A8-98D7-183E104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C0041-AB92-4B7B-9347-A151B5520C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