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6325"/>
        <c:axId val="46376830"/>
      </c:barChart>
      <c:catAx>
        <c:axId val="98063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76830"/>
        <c:crosses val="autoZero"/>
        <c:auto val="1"/>
        <c:lblAlgn val="ctr"/>
        <c:lblOffset val="100"/>
        <c:noMultiLvlLbl val="0"/>
      </c:catAx>
      <c:valAx>
        <c:axId val="46376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63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75A0-3DED-4FBC-84FC-02A45306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8AB7-9870-4FE3-A4DF-D47F7283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496F-6237-483D-9541-68D79A19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979E-059B-4674-AC69-92683592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7E10-0601-460F-8194-C90CD7A7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4F7-613D-4B39-A635-BC89C0BD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4A7-F2F1-467C-AFDE-B7C653ED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2A0-AB8B-4E57-8F10-08EE0F99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9C2-0F3B-4273-978E-EB8D8F8D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24D9-5F42-402A-BEA3-787C9EA0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C11-2445-4591-9DAB-E9366437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2EB-754F-4743-8374-6A9833AC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7842A-059F-4173-ABE2-3A291A3C28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