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23323"/>
        <c:axId val="4250773"/>
      </c:barChart>
      <c:catAx>
        <c:axId val="89923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0773"/>
        <c:crosses val="autoZero"/>
        <c:auto val="1"/>
        <c:lblAlgn val="ctr"/>
        <c:lblOffset val="100"/>
        <c:noMultiLvlLbl val="0"/>
      </c:catAx>
      <c:valAx>
        <c:axId val="4250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23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3B7-D34E-4A51-B025-F7481D9D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629-F846-409E-A415-56E1E07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ECE-647C-4770-9201-4944BA27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4C2-DB54-4F13-A8CB-78684A7C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A28-5172-4AB2-8F31-4702509B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CA2-6ACD-43A9-8FA3-82C8931F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C25-876F-4178-9A5C-4B34D655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800-0177-40BD-83AB-5757E5A6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4C1-393B-48FF-AE67-63CFC19B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6C5-18DA-4EC1-BAD6-3F4AB819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5C2-D12B-41F1-9B06-D87B84FB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4D9-47AA-4DE7-BB1D-75EF876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CB3F4-8191-4A58-BE0D-8F68693639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