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78048"/>
        <c:axId val="78091184"/>
      </c:barChart>
      <c:catAx>
        <c:axId val="92978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91184"/>
        <c:crosses val="autoZero"/>
        <c:auto val="1"/>
        <c:lblAlgn val="ctr"/>
        <c:lblOffset val="100"/>
        <c:noMultiLvlLbl val="0"/>
      </c:catAx>
      <c:valAx>
        <c:axId val="78091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78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8BD-CE13-4E21-98A1-55039A04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7B7-6C30-4B47-91D6-E5BA5DC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81C-0C5C-48F1-8F23-F880DEFE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A62-D94E-4317-929E-DE51E000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DD9-8B66-4508-B03C-769E8222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47A-D6A6-4601-A2CA-7FF5CAF5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8F9-3050-4220-9A7A-0A56F6CF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6B1-54F0-4622-A27E-C8A6E34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B1B-5852-4264-87CD-54450B1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31A-CD5F-40D2-9B57-622C778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654-8B64-41A2-8D00-FA908E9E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FB6-36DC-4755-B0EC-55321A4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D17D2-E339-4AFE-915B-DFC4E5D75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