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2838"/>
        <c:axId val="70017508"/>
      </c:barChart>
      <c:catAx>
        <c:axId val="49372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7508"/>
        <c:crosses val="autoZero"/>
        <c:auto val="1"/>
        <c:lblAlgn val="ctr"/>
        <c:lblOffset val="100"/>
        <c:noMultiLvlLbl val="0"/>
      </c:catAx>
      <c:valAx>
        <c:axId val="70017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2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0ED-37AE-45E1-9324-CEACF9EF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8D2-F8CB-4D96-90F7-72F9A39A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305-D9DE-463E-B495-B4DF1A96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E33-653B-4216-A950-F7D9C596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8D0-E1AD-483D-8FFE-55C6AE92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288-126C-4111-8BA2-F69E8C8D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E34-ED06-4D8B-88AB-806A2EC2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31E-A707-442E-98F6-B0C4F2C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6EB-C31D-43B5-985C-34633A70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270-3FDF-4EDA-B006-EA4DB5E9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94C-C852-46B9-94A6-2F33E09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7D5-3303-421E-B496-9A6C4DB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66A77-8072-4C26-A536-AA3F13015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