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1732"/>
        <c:axId val="92217707"/>
      </c:barChart>
      <c:catAx>
        <c:axId val="4911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17707"/>
        <c:crosses val="autoZero"/>
        <c:auto val="1"/>
        <c:lblAlgn val="ctr"/>
        <c:lblOffset val="100"/>
        <c:noMultiLvlLbl val="0"/>
      </c:catAx>
      <c:valAx>
        <c:axId val="92217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1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44B-84B2-4164-83F8-E2B6A895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B83-909A-45D0-B3D4-2112CE96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B64-DDC6-4CEC-B761-D4177EA5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69F-A68D-4AAB-BD6C-69C1398F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8E1-3A11-4505-9F9B-B90CBDF0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7ED-05F5-4F37-9F0A-EAF848A8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B45-0D6E-4DCB-B76A-20F4B78D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53F-55DC-40EA-9FFB-6231C0DD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7CE-F555-4055-811D-D7B5C1B9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15AE-528E-4F21-B2E4-D9B24A4F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61D-FC68-49F8-9E33-20EEBB33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B5F-921D-41CA-85C9-7E37E099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CCAFF-E546-4561-A5AC-9230568BD5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