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07125"/>
        <c:axId val="73056659"/>
      </c:barChart>
      <c:catAx>
        <c:axId val="23907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56659"/>
        <c:crosses val="autoZero"/>
        <c:auto val="1"/>
        <c:lblAlgn val="ctr"/>
        <c:lblOffset val="100"/>
        <c:noMultiLvlLbl val="0"/>
      </c:catAx>
      <c:valAx>
        <c:axId val="73056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07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7A8-CBF4-4FBE-9B19-87D913BC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88E-25BF-4C08-B675-F2A016C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0FD-7A50-4E2A-951F-AFFDB5E2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82D-CE2B-4361-A911-836710FF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26B-998A-428E-8DF8-EFD31A0F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173-6806-453D-B739-22731EF9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EF7-F643-4B70-89EA-D14A2C26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E92-38BE-4545-B29E-1786362E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999-93AD-419A-B2D4-81F2B82A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2D5-5AC2-44B9-A937-83D0B58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007-D0B4-4DDA-AFF1-CF2BB6BC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FAC-79F4-4DEF-9DB7-8340FE9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1B8E-D5C5-4E44-AF6F-E64A3115A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