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89797"/>
        <c:axId val="90654531"/>
      </c:barChart>
      <c:catAx>
        <c:axId val="17889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54531"/>
        <c:crosses val="autoZero"/>
        <c:auto val="1"/>
        <c:lblAlgn val="ctr"/>
        <c:lblOffset val="100"/>
        <c:noMultiLvlLbl val="0"/>
      </c:catAx>
      <c:valAx>
        <c:axId val="90654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89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D7A-4879-499F-BAC2-02AE8104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D05-4C38-4928-AA7F-E8EC20D1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C6D-0CF7-4C77-9425-6020BFDA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5D1-F590-45F4-9F4F-765C71A9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AFC-FA19-4904-93A8-246696C5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65D-E3A0-41BC-A4B7-D5CFC472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062-7818-4327-B7B4-C6874389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787-B1FC-41F8-ABF7-62B01F71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0D0-92A9-4DCC-94E2-10FFE2C7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8C5-D795-4545-A226-0D4D4BB0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4A5-C9B7-4B6C-B0F8-0601622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484-00E0-4DF1-BC77-2A666E12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83D45-BFAD-4F5E-84EA-540F8FECA0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