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53029"/>
        <c:axId val="38985771"/>
      </c:barChart>
      <c:catAx>
        <c:axId val="10253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85771"/>
        <c:crosses val="autoZero"/>
        <c:auto val="1"/>
        <c:lblAlgn val="ctr"/>
        <c:lblOffset val="100"/>
        <c:noMultiLvlLbl val="0"/>
      </c:catAx>
      <c:valAx>
        <c:axId val="38985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53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C43-CDCB-4EF7-902C-DAC7C6AB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E10-7D59-4016-A01F-A15AFDA8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F84-E6F4-4ED9-A05C-5AE1FEA7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23C-349E-4568-B653-1F238606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E4B-3919-41EE-9C5B-0A8B7BC3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BCA-7C24-427B-A675-59AEE86C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869-1C63-452F-83D1-941B954B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34F-5ABB-4B8F-83D3-673F04E6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832-3239-4C62-AD42-76315C4C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70E-BEB0-409C-B5CE-BEFC49F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52C-74A6-4CE6-80ED-A42EACD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4E4-D5D7-4A6D-A9E5-636227A1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C0B1E-852A-4DF4-9620-8071458AA4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