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60712"/>
        <c:axId val="54333994"/>
      </c:barChart>
      <c:catAx>
        <c:axId val="59460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33994"/>
        <c:crosses val="autoZero"/>
        <c:auto val="1"/>
        <c:lblAlgn val="ctr"/>
        <c:lblOffset val="100"/>
        <c:noMultiLvlLbl val="0"/>
      </c:catAx>
      <c:valAx>
        <c:axId val="54333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60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837-1970-4BD7-A98E-AD235D1A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1AA-4AA2-4CCC-B45B-47AB0676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8A8-5A0F-41E8-912A-62F5E9E9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615-11EE-416F-940D-46A9D4B7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0DA-13A8-483E-91A1-112441D7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6DB-2682-4EB0-B73C-3010D4A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0C2-97BE-4A82-9355-DFCBA0AB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B65-110D-4421-8BAC-6B648B80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B43-CBC4-4E77-82B5-A760A3C6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B22-4B0C-48B3-8FA9-5D6BEC5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689-9DD0-4AC9-847D-CE379B4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4FF-4A2B-4FB5-A6AD-F65AA654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12E4F-25A5-422B-A93E-352832ACC9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