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7563"/>
        <c:axId val="7381204"/>
      </c:barChart>
      <c:catAx>
        <c:axId val="5837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1204"/>
        <c:crosses val="autoZero"/>
        <c:auto val="1"/>
        <c:lblAlgn val="ctr"/>
        <c:lblOffset val="100"/>
        <c:noMultiLvlLbl val="0"/>
      </c:catAx>
      <c:valAx>
        <c:axId val="7381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7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82D-ED48-474F-86A4-2662DF35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F73-2A52-4617-AAC7-98A1BCA8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777-6A5A-47E7-9C03-6ECF90DC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2C3-BC20-497A-AAD9-8C7C99AB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2F4-8A0C-47C3-BE45-760F2D5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0C9-858C-43B0-9606-8D9E7974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9A8-5085-4D3D-89D8-D5556282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F2B-AA30-4802-983F-ED51ABCF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7A9-806B-4E06-A092-21A4E9AC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74C-FFF1-4120-8F31-B9281393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48B-0212-4895-8DED-1E7AA283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575-0C6D-4373-98E2-FCCCDCE9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C8C9A-EAD9-4D02-A64A-9862DCFEC7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