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45177"/>
        <c:axId val="9269759"/>
      </c:barChart>
      <c:catAx>
        <c:axId val="68145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9759"/>
        <c:crosses val="autoZero"/>
        <c:auto val="1"/>
        <c:lblAlgn val="ctr"/>
        <c:lblOffset val="100"/>
        <c:noMultiLvlLbl val="0"/>
      </c:catAx>
      <c:valAx>
        <c:axId val="92697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45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3D3-479A-44AD-8858-D919E75F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D1F-31A6-459B-A80D-FD8274E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3DA-6547-429F-BAF4-BAA7D285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01D-FD35-44DD-980E-F4AC4867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6B6-5132-446C-85B6-CDB457DB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13B-06B4-4D6B-8327-9A9FC6AF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4DB-74EE-4946-BB9E-BC02B561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5B9-C96A-4A5E-94D4-61E9B0B9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E0C-59B3-4B7C-8A22-73F034F5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415-D3DB-488C-BAF4-9B3F625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490-8DD5-4A0B-AB4C-E08211C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63F-03BC-4E7F-9935-12EB244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0622B-A098-4077-B6A6-4D5CD3BC73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