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7788"/>
        <c:axId val="14573982"/>
      </c:barChart>
      <c:catAx>
        <c:axId val="5257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3982"/>
        <c:crosses val="autoZero"/>
        <c:auto val="1"/>
        <c:lblAlgn val="ctr"/>
        <c:lblOffset val="100"/>
        <c:noMultiLvlLbl val="0"/>
      </c:catAx>
      <c:valAx>
        <c:axId val="14573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A06-1487-44CF-9F01-02F92DE9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B6A-87AE-4C8A-829D-C2D557A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32E-A13C-4763-8637-F3A62265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E90-0272-4E9D-BA3A-D5F001D1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FC3-5C29-4B70-A825-18B51811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A80-745F-49B5-B111-277641A2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D8C-0C23-45BD-A4FC-7839DD6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CA9-A74F-4E91-BDE9-B4BDE22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245-72F0-4319-AF72-9024D71D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63-6CA6-4E89-8EB3-9C0A761B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10D-E06D-48D0-83AB-7AE5977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47C-292C-4D42-8F70-AEF3597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30ED-9BAC-4366-8121-0F874A1DB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