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56467"/>
        <c:axId val="68529741"/>
      </c:barChart>
      <c:catAx>
        <c:axId val="95656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29741"/>
        <c:crosses val="autoZero"/>
        <c:auto val="1"/>
        <c:lblAlgn val="ctr"/>
        <c:lblOffset val="100"/>
        <c:noMultiLvlLbl val="0"/>
      </c:catAx>
      <c:valAx>
        <c:axId val="68529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56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DB2-5958-4EDF-94BF-17335BE8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0B4-9820-46A7-A87C-E65411DE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6C0-A068-4AD5-89B0-34E71F2E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584-0E26-4B91-A0D8-3C7C3911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588-E919-4826-8055-52651B83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9C7-A963-4EDB-9EDA-9B0182E4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7E0-A0CF-470A-B7C8-63A7F77D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9C3-338F-4DDC-9D32-386381A7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938-64C6-40C7-8866-F0A5F192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292-5F1D-4434-A3BF-220EB77C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6ED-7D76-4779-B179-9F0354E7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2BF-9FF5-41BB-9A6C-F01997B8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55CCC-EDC3-4B43-95C0-D500816B58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