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39783"/>
        <c:axId val="25384301"/>
      </c:barChart>
      <c:catAx>
        <c:axId val="17239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84301"/>
        <c:crosses val="autoZero"/>
        <c:auto val="1"/>
        <c:lblAlgn val="ctr"/>
        <c:lblOffset val="100"/>
        <c:noMultiLvlLbl val="0"/>
      </c:catAx>
      <c:valAx>
        <c:axId val="25384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39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19D-0242-489C-913A-CA1C91B9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E17-EC5D-41B6-B4D8-187DA642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0A5-8E7E-4E4C-8889-236D38B2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B63-DED4-4EAD-892A-12AD065F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836-8E2F-413D-86F2-1F787986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DF9B-8AF4-4AA5-A37C-C8BD0A38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2F2-AEC1-4911-B79E-8B2EF268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B3E-562A-487B-A0BF-1E9B7136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010-181A-45FA-8B40-A25CD220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566-B820-42DA-86EF-AF40B0F0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FD7-B529-4C27-BCAB-A25C3E00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341B-A242-4E50-864B-8B2E773A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6B4E4-334F-45D0-AF2E-BE9F4CC0EC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