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101832"/>
        <c:axId val="9503119"/>
      </c:barChart>
      <c:catAx>
        <c:axId val="98101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3119"/>
        <c:crosses val="autoZero"/>
        <c:auto val="1"/>
        <c:lblAlgn val="ctr"/>
        <c:lblOffset val="100"/>
        <c:noMultiLvlLbl val="0"/>
      </c:catAx>
      <c:valAx>
        <c:axId val="95031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01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BD6F-6F61-4F95-91A3-65D7318F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C50-EFCD-4EB7-8CE0-B60FC43F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5B70-3F73-40C5-8CA8-B0F21166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A627-F1D2-4679-8715-40685221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2E8-7E1C-4CA2-A46C-99F3B4ED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6CFA-5552-4D8E-A55B-34FE26AC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208F-B1D6-42BA-BE9B-B77CB26D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503-DB07-49CC-86CD-B43CE21F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F74F-AF33-4754-8BB3-8043DCD2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1E84-ECA3-481E-88B2-43B27686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AEDE-E1D8-49F1-AC6E-16AACDF6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0841-6C82-4289-8A65-7EB4EFA8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A9F0C-5185-4ACE-937D-6E467A72F8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