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31492"/>
        <c:axId val="84777614"/>
      </c:barChart>
      <c:catAx>
        <c:axId val="61131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77614"/>
        <c:crosses val="autoZero"/>
        <c:auto val="1"/>
        <c:lblAlgn val="ctr"/>
        <c:lblOffset val="100"/>
        <c:noMultiLvlLbl val="0"/>
      </c:catAx>
      <c:valAx>
        <c:axId val="84777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31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4F0-5E0A-42BB-B349-DE896DB9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B96-E753-47F2-854A-5563C34B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9F6-E245-4CE2-978C-5A3152EA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727-98DC-4FEB-A621-C90C7A17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BB1-CF87-4166-AA07-C8E45279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552-4013-4530-836F-FD0CC0C8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0B4-E06D-46EF-862B-23E6E1D0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DA7-AE1A-405F-8C4A-41C2D994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159-479E-4461-A6D7-DC55B573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E67-530E-4BB7-AA8F-841ABE6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213-BD86-4146-A066-A373BC6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41A-9CAA-4D2E-B0CD-0201BF15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23DDF-B1CC-4617-B8BB-22C4D369ED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