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11558"/>
        <c:axId val="83575897"/>
      </c:barChart>
      <c:catAx>
        <c:axId val="12311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5897"/>
        <c:crosses val="autoZero"/>
        <c:auto val="1"/>
        <c:lblAlgn val="ctr"/>
        <c:lblOffset val="100"/>
        <c:noMultiLvlLbl val="0"/>
      </c:catAx>
      <c:valAx>
        <c:axId val="83575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11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F39-E6C1-4DDA-A5EC-B45324E3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5A4-87E4-44A5-855B-BEB2AD9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6BC-1215-43D3-8155-FE4211F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396-B36A-49E4-86D6-822D75DF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0DF-86F6-421B-A040-8F268B33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FCB-A518-40A0-AA45-3254E62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E05-A9B1-4458-8787-A3317DB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53F-5888-4D34-A00E-5058EA1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955-B09C-42AB-BA2D-E8CBCF6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949-0E02-49D2-A04D-8A7A545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0F4-CF64-48A1-8ACA-CF30A4E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D14-DFBE-4AF7-A84B-313F781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9B212-F9EA-46C9-95A1-E33C348BC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