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718372"/>
        <c:axId val="67220813"/>
      </c:barChart>
      <c:catAx>
        <c:axId val="837183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220813"/>
        <c:crosses val="autoZero"/>
        <c:auto val="1"/>
        <c:lblAlgn val="ctr"/>
        <c:lblOffset val="100"/>
        <c:noMultiLvlLbl val="0"/>
      </c:catAx>
      <c:valAx>
        <c:axId val="672208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7183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6D50-A6BF-49B4-8A70-D8B07950C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CCDD-F910-47B5-A25B-AF122B8F3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F3E3-2AF6-4730-8A42-66843B060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4FC4-928A-45F4-B285-3AEDD02B3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8AA0-BCCC-4F20-A01C-4EE57F7E0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F8CB-2989-40C4-A2A5-E684A3756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0015-0539-4BAE-8430-026C3DC03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B7AA-E5FD-421C-9A80-6B751618F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CDF1-2DFB-4F33-BA9F-3AC6785CF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2E54-EA4F-41E0-9E73-9C07AE83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B002-20B2-4792-B381-DB5EA97F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18A3-1AA7-4DAA-92CF-C3011655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7FD80E-BF9B-4D1C-B2A6-F261552B1F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