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32156"/>
        <c:axId val="71758290"/>
      </c:barChart>
      <c:catAx>
        <c:axId val="61832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8290"/>
        <c:crosses val="autoZero"/>
        <c:auto val="1"/>
        <c:lblAlgn val="ctr"/>
        <c:lblOffset val="100"/>
        <c:noMultiLvlLbl val="0"/>
      </c:catAx>
      <c:valAx>
        <c:axId val="71758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2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013-FCEC-4456-BC1F-A6A1C5AC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00F-FAE3-439F-B91B-0DA907A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F14-3B85-4221-B915-F771124A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574-79D9-48FA-A202-88B37ABC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13E-C909-40ED-B0A6-1A2DC5F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673-1CDF-4F60-8EC5-CFD5B25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4B4-527A-43BF-B3C3-8AFF34E2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E8C-43FE-452A-9AB4-9590BB5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4BC-6950-4F1E-806F-CF51C8A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52F-9C99-46AB-AE9B-B76A970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278-F75B-4467-AD9A-66EFA53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419-D5D6-4661-864B-EF96547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18D4F-44F0-4C68-BFEC-1C5D83FE4C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