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68347"/>
        <c:axId val="3493720"/>
      </c:barChart>
      <c:catAx>
        <c:axId val="26368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720"/>
        <c:crosses val="autoZero"/>
        <c:auto val="1"/>
        <c:lblAlgn val="ctr"/>
        <c:lblOffset val="100"/>
        <c:noMultiLvlLbl val="0"/>
      </c:catAx>
      <c:valAx>
        <c:axId val="3493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68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4FA-36A3-46AB-B8A9-C377C995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FF1-7B0A-40FF-9BC3-ED29A09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5E1-D0CA-48BB-B354-6C379F1C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C26-5E87-40EE-9376-725CE18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BC6-5960-425D-B2EE-5FA2C87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1D2-7DE3-4481-8F64-D3D83E1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B7B-A71F-4245-AAE9-11E8D07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057-B243-4D33-AB69-D40ACBB1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AFB-DA9D-4835-9150-0B00BDF6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695-D944-4ED2-B7BA-43AA8E19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37D-1E76-4CF9-BFB4-CA4EB60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7A0-7D66-4A53-9D58-75E921F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A5D99-3FCF-4234-9B7D-16B353C448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