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85900"/>
        <c:axId val="74973266"/>
      </c:barChart>
      <c:catAx>
        <c:axId val="75085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73266"/>
        <c:crosses val="autoZero"/>
        <c:auto val="1"/>
        <c:lblAlgn val="ctr"/>
        <c:lblOffset val="100"/>
        <c:noMultiLvlLbl val="0"/>
      </c:catAx>
      <c:valAx>
        <c:axId val="74973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85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7EB-83F0-4DB1-9CCA-15AAF2EC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CF2-24C7-4CA8-90E1-6FD70568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22C-64BA-47A7-869E-F4161A42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133-54A0-406E-9BAA-47FB2107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D52-C249-4887-B8E0-72D1BCDA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7E2-7D9D-4C27-BE2D-43315110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44BD-2CC7-42C3-A2C4-9445DE97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B6D-F2AA-469C-84CD-31459C36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D78-FB04-4F74-9A54-832FDF0D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8D1-87E4-4568-9188-04F7B714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5EF-813A-4525-BD5E-5170DDF5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835-1085-425A-AA0E-B0D1B3A1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6599D-5316-446A-96AB-F64673D959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