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692EC-D153-4152-9269-0B4C537AF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ADAC3-0A44-4B68-8E0C-DCDED7A95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C4D4A-D2BC-4BEA-8521-DB7021A86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DE1D3-BBFD-4D62-9B01-5E8C5FADA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7B16B-4257-4F0F-974E-BAC4E7814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4B72F-EF29-4C8B-AEC6-88B403FB4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A2C6E-4B72-453C-B9B6-ECC371D61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2F039-8036-4748-80CF-49EA682A1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82C5A-1F44-49C3-ACC1-F63E17DFD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AD64B-44F6-4C63-9542-030A171EB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316BE-5948-448C-A798-237648842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AB76B-D2CB-45B1-B1EE-8C3033F74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75B74-2335-445B-8F2A-7CD64D6E0EEA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flowChartPrepa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p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flowChartManualIn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flowChartManualOpe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flowChartOffpage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ff-page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flowChartPunchedCar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lowChartPunched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unched 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umming J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flowChar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flowChartCollat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l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Alternat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flowChartSor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flowChartExtra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Ex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flowChartMer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e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tore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prstGeom prst="flowChartMagnetic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equential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gnetic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rect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defined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flowChartInternal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Internal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ulti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Termin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03:09Z</dcterms:created>
  <dc:creator>tb121644</dc:creator>
  <dc:description/>
  <dc:language>en-US</dc:language>
  <cp:lastModifiedBy>tb121644</cp:lastModifiedBy>
  <dcterms:modified xsi:type="dcterms:W3CDTF">2005-05-25T11:15:34Z</dcterms:modified>
  <cp:revision>2</cp:revision>
  <dc:subject/>
  <dc:title>Slide 1</dc:title>
</cp:coreProperties>
</file>