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F3F-4EA9-4EA3-9563-FD159FE9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6A4-5655-4633-8C37-54A036EB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743B0-4D3B-4F36-B890-FEBE44A8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55059-B0A9-4361-A59C-BE766572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D28A9-3504-4223-943D-1E8BF0B9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9E7DA-1CB8-462F-B91F-994593C0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790BE-A852-470D-98D6-9EDCACE0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F097E-3670-4070-A237-D77B9FCA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9148A-DB1D-4241-9A84-59CC33AD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A6953-C3E3-4011-A569-2D33A63E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1F9BC-0469-4B06-906D-7F1917BA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6693AB-E1F0-47E2-9DB0-5DB1AA1C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410C-A45B-4A4A-9AE3-11848292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897DA8-455C-4135-ACB8-EC8568C7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9A2F81-CBEE-4364-80B1-F7436B9D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9E1B7A-2F6D-4DBF-9A4D-5F31BE3A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4C9FB9-A74D-4DF8-A24E-FF832EC7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182AC3-8C65-40D7-99A0-695633A3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97D9E9-3FB3-4F3D-957F-EE1FEA91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78C6A5-DBDE-405A-B094-01A762B0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234072-3138-4DA5-9CCF-17EB0C41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B20CD4-3C2F-4D0F-A779-C5E3E9AA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29C51D-4FEA-428A-8255-99BA0DD3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5D2-5F1E-47A1-BBE4-307ED9D4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E1D0F7-80A3-4CB3-A5F3-287E64B3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D9433-403E-407B-B8DA-985F7DA4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DAEAD-4B20-4B45-9263-795B885A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19B46-52EE-44C0-A9BF-4FFFFC89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B4B4F-212F-4E1A-B6AF-957126DF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91E2A-7314-4A2A-9CE8-0AC7E889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E6200-6E89-4A2F-AB69-206FAE4E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A5992-2599-4F45-8E22-1683BAE9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AFB91-97E0-4FAD-A8A2-10C206E2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20A32-BCB0-4760-9EE6-1DBF7E0E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5FF1-F9D9-4A34-B9E8-B7DBD2DF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8A91D-FD36-4F64-991E-FD00BDF7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3F061-3472-446D-9323-E0852D25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D92AB-2219-4342-BF9B-9EB4B855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32AF7-B4CE-4CBA-8EED-AA774635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C069E-54FA-400E-BCE9-4DBC8998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53181-6AAC-47B8-9179-68FC0E6D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0D10B-42F4-4455-AE84-8AEE7CAA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F1030-0244-4B6E-BF21-8C63344B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769E9-073A-4288-A4C9-581F3DF5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EA135-BF95-4F61-89FD-DA4F130B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90A3-A147-428F-8C09-380BB781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B1FD5-C83D-4E42-9A11-D095E136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62817-D416-4148-9435-4562ADFE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005B0-2222-472A-84C4-D8B7E2FF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B9506-8E77-4D6A-856F-5ED4F941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4E28C-538C-4610-9A46-1B35802A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A8BE-0F13-4F4C-9534-9DE9210A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E791-1D53-40B6-B596-487DC137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043A-B0B0-4820-87DE-EA468712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2361-F0DF-45F1-83B0-BF112DBB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C848-9ED3-4720-9DEF-63037B5F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647-393D-46E0-A40F-9E7E7371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3F03-B041-43D5-888F-160F6FFC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1FA2-00FE-4BC4-BC2A-75256A57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F9BD-0D15-4229-BBD2-47949756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7C8F-E438-4731-ADBA-F035A9C7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8CAB-EFDF-496C-8516-78BFAB2C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A361C-CE01-42CE-90DE-6FEE3EA0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F0BD2-55E2-46F0-859E-F478596F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1164D-6C0D-48BF-BD89-00483585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C9D91-CCED-4268-B18D-9BA49743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26F4E-FBE0-42A3-914A-51D2E102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17E5-4550-4298-8E66-80669550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74958-9D6D-4618-B666-5A2430E2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AAB97-9055-4196-940C-16A2C2A3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A0232-FAFE-40D5-9EAD-83097C8D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2164F-EB78-43F8-AB8E-DE9E8999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DD4C5-6C84-468C-95F8-D213C1BA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970D8-69AC-43A9-9E0E-23C3A732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FE61A-6A45-41CA-A3FA-58832C26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B7C6D-154F-4F06-8DF2-EF2563A0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10E55-4959-4151-9193-C6A83503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6466E-8C38-4E6C-8E88-3F296B7C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4016-B9B0-47D2-9AA6-0B2FA82C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EC518-EB5B-4FC7-B3F9-E1848ADC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D0B60-BE03-413D-A1D5-69610E2C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E597C-F898-4AE9-93E5-2C13CE0A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469E2-5535-49FC-8091-62F8AB17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3F491-785B-4025-A545-97B4A1A6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4FC9D-DEAD-4F03-A733-AD0D3B9B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E01DC-EEA8-47F7-AA18-E7E8E96F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0A3A2-F9D6-4655-B7E3-F7360D1A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C971E-F3AC-41C6-8B7D-70CD8423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D91493-EA7B-4916-B621-BA317071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F43-DD51-4CCF-88E4-0163C812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127A92-8744-42E6-BB70-2831C29A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8E3B4B-168C-4F7A-BDEE-0EFBFEA2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4C9448-AADF-4348-BEC1-1D572076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A9F17-1A11-4724-AF13-BF016229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43E6A9-6825-416B-A57E-8A40A206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B8A5F6-C75A-4153-AD66-355B7894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2002D6-0274-4E54-BA80-E9535C2A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FE5D17-9C75-4FCE-8A5A-6C356C17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94057A-AC6C-4099-AB54-D1165B17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33FDA2-C951-43C6-993B-3AD5F9BD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B1A-17CE-4266-A2A3-A08E7E3C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083975-8BFC-4F49-9DCB-3D9CB89D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ED84D-7922-40F3-B833-E335D694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B7CE0-6041-4874-B525-240EB34F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6C08B-65AB-48DF-A83E-52E777AA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D8CD9-12AD-41F4-B678-FDBD0148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FAE43-6A5D-4A7C-8CAF-4FBA416D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C3D6D-82A5-46AA-98E4-9F2A1B55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222AE-7D6D-4160-B9F4-269B0B30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64FEB-C908-48DF-92F9-9D89E200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0B635-E659-43F3-8F67-81DC433E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7C7-9471-4EA9-8C1E-E4324EA5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BBA10-3134-49D6-AA0E-16BCC849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E721F-FF32-4DC4-ADC1-D7ED40D6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91C03-7E90-4086-BBC8-91568326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62D2F-D1E2-457C-9392-C664D03A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ADE09-9539-41C2-AB2D-74FD9CA9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F2E68-9EED-4CB5-9F6E-F0608035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E9A40-B3E3-4272-9536-5E00EF56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68782-0DB7-4E3C-9863-E689A986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EF40D-F248-4521-8312-E6935B24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3FDC3-5212-4A55-940E-298BFCD2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0D1-5562-4D29-9BAB-D62C01C5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0F17F-C25A-40A1-9DD1-00500EDB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BE478-9E3F-40BA-B07B-084014D9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6FCDC-05E0-4D99-BC7A-00EB0C74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BD395-FA23-49D3-A9E3-7986CB7C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DC625-2743-4B10-A506-8C4A04BC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1C94C-EA0E-453D-8A08-4AD2646B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17C79-84CA-49AF-9325-7A2877AF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BBCB6-D247-40E6-8B95-B3894455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81626-15C3-4CE5-8212-B19041C6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398EA-F813-4A10-B36B-7DA22157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8AC-8984-4C0E-B854-E9E983B6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AAD72-936B-4873-B244-9C0484F2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0AFF3-241B-417D-8E16-010B932E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5343C-4649-4DC7-81DC-E1C968BF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BDE59-203C-482E-8248-8113E715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AC6EA-6502-452F-904C-EA8ADB02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3A711-1A9D-4567-98FB-2F1D7118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2F423-ACA1-411E-9FBC-9CFEB27B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B362D-DEC0-4AAF-A6E4-4E33E203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E1EA0-43D0-446B-BF60-0ACFAF14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CDA28-5793-4783-B854-BE7AD9AB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C93A-90B8-436A-8AED-60FD67DF72D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7958-B9C4-44D1-932E-CFFE145BD6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C1F9-A897-4F32-806C-A9DD2DA28D8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7FF9-4A34-4C34-A1DB-C0EE73F52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CF44-8655-43AA-8A73-D8AA71DC9A9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9FA7-82CF-4D83-BEE4-0D579223D40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40DC-FE23-440F-B97C-6C95F2D018E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3286-52EE-4C5C-92EE-914F8069F0F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2B83-7677-4D82-AF42-B5D26830E06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4C89-1F0D-4BF8-8784-E3F54B32DA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32E9-ADF4-43B9-9A26-DA7DF814194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CEC1-6F8F-41F7-A9DF-9098FB2E0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01EC-F79C-418A-9869-D29B02132ED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EA7D-D4B3-4CFC-8562-90A66F635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B1A5-3ED3-41BA-A787-2E50B8E31E4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5955-954A-48E2-AE7E-4864900B833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9880-CA4D-454D-BABF-693FFBFC325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15A4-9186-420F-A217-56D85332F80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1820-150C-404F-9DBB-73A51EAB38E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DD8F-BF97-4DE2-B1E5-07EAB90A1E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FD54-A12F-4521-855F-E84BD84742A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22D6-0E0F-45A8-B673-2D26EA0B281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8162-EBBD-4D30-B33F-1FD43AF440E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F449-A2E7-4D8F-BFB9-833F33D58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A361-F0A8-4556-8859-608FCE5F14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9CFF9-165C-406E-AF9E-D9BF307FB628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6B2F8-129A-4A06-B9F5-2D69DF515C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FEFC4F1-C88C-4E34-A513-FA4790A9E13F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1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2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5F43D-3042-449D-BDEE-9B8EEAF3F433}" type="slidenum">
              <a:t>3</a:t>
            </a:fld>
          </a:p>
        </p:txBody>
      </p:sp>
    </p:spTree>
  </p:cSld>
  <p:transition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6881C4-4058-4986-A2E8-167F131509C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0F90BCA-2CCE-4D61-ACA8-FD4F7119BE2D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C761D-3723-4807-BBDC-92F1554AF7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39DE7DE5-6030-410E-8086-7460ED5115E0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0DAD1-2689-4366-A292-F28E6683B8C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E6A470C4-CF80-459E-AF43-3FB4B153A6C2}" type="datetime1">
              <a:rPr lang="en-US"/>
              <a:t>07/29/26</a:t>
            </a:fld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