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DF61-73BE-443F-A6D6-FFB7C3B2A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BA8F-4C3B-45B1-BE37-193D59C2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7520-0AEC-4B35-B64C-E1D637A4A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79AA-58E0-4597-ABE0-F7CCE6AB9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38FB-9AF3-47E1-B929-7255D059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B46B-E985-47B8-A7CE-217B5C09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6FC9-2AD2-431A-B36F-AE71F8C5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6872-390B-4092-A719-77A03612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7FE3-92B0-42E9-AEAD-166E70E0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63C7-DF7F-4AB6-AEB8-4B629C7D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C4E0-4557-4ABE-B296-CFD357DB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797F-D1E0-480D-9FB0-CA0D6D59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4C4D7-2C3E-4A0A-A757-A8B2E6C1AF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eagle.to/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Maturation and Ev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7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till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T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rgument expansion syntax (i.e. {*}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namespace support (except the global namespac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binary], [fblocked], [fileevent], [format], [glob], [history], [memory], [scan], or [trac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open], command pipelines and serial port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exec], Unix-style input/output redirection and command pipeline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afe B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registry] or [dd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namespac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makes command and variable resolution far more comple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ut, I really need namespac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steps have already been tak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for custom resolvers has already been added via the “default resolver” and the managed resolver AP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compil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w performance was not a primary consid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ng dynamic and correct is more important than being fa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running scripts can be evaluated (and canceled as necessary) in secondary threa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LR just-in-time compiler is already pretty go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formance Proble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much slower than native Tcl, even for the simplest oper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time, targeted optimizations have been added for all critical code pa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low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sing strings into li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ing lists from str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ion evaluation, primarily string-to-type con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ther performance issues are insignificant compared to these thre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wo years ago, at a conference far far away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was presented and there was much rejoic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it was not all double-rainbows and flying unicor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ext Placeholder 2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erpreter class is far too l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 into multiple fi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entity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shared state and its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“helper” functionality to other classes unless they need access to interpreter intern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teractive loop code is too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jor Compon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Text Placeholder 2" descr=""/>
          <p:cNvPicPr/>
          <p:nvPr/>
        </p:nvPicPr>
        <p:blipFill>
          <a:blip r:embed="rId2"/>
          <a:stretch/>
        </p:blipFill>
        <p:spPr>
          <a:xfrm>
            <a:off x="693720" y="1076400"/>
            <a:ext cx="783288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gine is too recurs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would potentially be a lot of benefits from something like N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mponents are too tightly coupled and have some circular dependenc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no Sag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o support was added prior to the conference last y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never been perfect because of serious bugs in the Mono plat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should build and run correctly on recent versions of Mono (e.g. 2.6.7 and 2.8) for Windows and Uni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can I help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in your environments and report any issues you fi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ibute to the documentation and/or the test su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feedback, suggest features, or fl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s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, reall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ginally designed for the purpose of providing a first-class library for scripting applications written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 considerations were secondary, including performance and full Tcl compati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Eagle is no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based on the Microsoft Dynamic Language Runtime (DL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intended for stand-alone application develop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likely to ever have a compi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a replacement for Tcl or Jac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hate Microsoft, .NET, C#, etc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k, but you like Tcl; otherwise, you wouldn’t be h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good for the Tcl community because it exposes Tcl to an audience that would otherwise have little or no exposure to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f 100% Tcl compatibility is require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luded wrapper can be used to access native Tcl from managed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y discussed in the Eagle 2009 presentation, available for downlo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the innov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application is always right” attitu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Host interfac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interpreter, multiple threads, saf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universal option parser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amless integration with CLR obj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support for overload resolution, properties, methods, fields, and ev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uilt-in debugging sup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development / deployment model (i.e. the “add a reference and go experience”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atibility, performance, and 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still several major Tcl 8.4 features miss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verall performance is still several orders of magnitude slower than Tc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’m still the only person working on the pro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10-10-14T18:34:37Z</dcterms:modified>
  <cp:revision>582</cp:revision>
  <dc:subject>Eagle</dc:subject>
  <dc:title>Eagle: Maturation and Evolution</dc:title>
</cp:coreProperties>
</file>