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43AD-9533-4C0A-B71F-C3ED370AE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7C46-BE64-4080-BBF4-7DAD8A6D0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1B3E-B666-4FA8-9159-03140A19D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8F7E-F2DF-4ACF-A7AB-4654D8447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43B84-6C82-4D3C-BACE-AAB49E2AB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05DFF-F39A-43C8-82C7-99440D4F3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E89F8-579A-49D1-A55B-F565B7892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4EB04-DE93-49D3-A5F4-C509F8572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A55D2-3CFC-40B3-AFFB-78EEFC976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F393F-AE9B-4E51-94B2-85BFA4177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27A42-FD5C-493E-AB9C-2AFC9876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14C8-4651-4D17-A3BE-CBF625A40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7875B-F4F8-4906-855E-0E2C64FC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6F59C-85ED-45EE-8768-64B94929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179FB-2A33-45CF-B4E9-9991D8E51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24E0D-F97E-4AFD-88CF-07569711C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F9F07-BAF6-4048-8258-AED852C90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F47F-A50A-4E0D-9D45-1D772F5CD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548A-5BAB-4FF1-9F88-A55A0576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DDEB-2A14-421D-90D2-CA8DD06E9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BA79-6724-44C0-8EED-31C4C1EBB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0939-00E7-4BEC-BBDD-45BD6FF8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6105-889A-4842-A16E-5078958B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8D23-B933-4617-86FB-4115DDC8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320" y="64036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40044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39C306-DDDC-415E-B719-9CAF96198A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180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56800"/>
            <a:ext cx="776916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320" y="63910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8000" y="639108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118DCF-25D3-4B93-8596-B3924BA2E7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22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Networked Digital Whiteboar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with 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Handwritten-Symbol Interpreter an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Dynamic-Display-Objec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1c3938"/>
                </a:solidFill>
                <a:latin typeface="Arial"/>
              </a:rPr>
              <a:t>Atsuhide Kobas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Henry M. Gunn High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Palo Alto, Califor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September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2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and arrow added by a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3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049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vas window with scrollbars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4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81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added by the participant who created the canvas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linked to a variable that affects the output (quadratic curve) on the added can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5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3526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widget window with a scrollbar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aster Controll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2763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by the pres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side controller has no page-change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114800" y="2286000"/>
            <a:ext cx="4314960" cy="27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raw/Write Tool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946240" y="2232000"/>
            <a:ext cx="3324240" cy="12859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3998880"/>
            <a:ext cx="769464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for all drawing and writing including the handwriting of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Hand-Written 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1148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oked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ze and color set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tion set by mouse click on the target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57800" y="2057400"/>
            <a:ext cx="1714680" cy="22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9528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 types of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s selector helps quick com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can be linked to a variable that changes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715000" y="1905120"/>
            <a:ext cx="2741760" cy="4037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943600" y="1905120"/>
            <a:ext cx="22417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anvas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Spinbox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hat is it?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69608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-based whiteboard presentation tool with unique function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ence can participate in the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s quick construction of complex objects for displaying during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etails on the Three Functions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464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written symbol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 and Widget Cre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Networking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TCL’s network-related command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25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devel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custom header to ind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s of data  (multiple combination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 of each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to handle each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wner ID and sequence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al extra information 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y on transmitt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of wish by both server and clients reduces the amount of transmitted code  (suitable for networking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e widgets created by the Widget Creator, only the specifications entered in the Widget Creator are transmit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Hand-Written-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lgorithm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erfect or even near human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lots of CPU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C module needed for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under development and modules for a small number of symbols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 for the conver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 from Tex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symbols not available from Tex, custom raster symbol creation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GUI and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GUI Tk-b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its of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and quick to create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amount of code fits well for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inspect the transmitted code in development stage, since it is written in human readable scrip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 independent operation for each participant guaranteed by multiple interpr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urrent Problems</a:t>
            </a:r>
            <a:r>
              <a:rPr b="0" lang="en-US" sz="19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1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 slide cre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akes more time to make presentation pages than the conventional presentation too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ic input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ore variation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get cre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der variety of widgets need to be handl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interpreter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 of threaded system desirable for smooth oper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-written symbol interpr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verage of more symbols and better recognition algorithm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function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age advance/backup capability on the client side without affecting  the display of the serv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onclus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tate still version 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 edges exist. Refinement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TCL/TK knowledge required to compose presentation slides.  (Less so for clients to add  objects.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onvenience modules needed to compete directly with PowerPoint and Im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potential to become a useful tool for users in various fields, not just educ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other tool can enable networked two-way interactive presentation with dynamically manipulable ob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otiv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al presentation in classes and 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tific subjects: math, physics, chemistry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with the conventional presentation tool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werPoint, Impress, etc. 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way information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(off-site) audience cannot particip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tools to quickly cre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symbol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display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 Our new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1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way information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audience to add objects on the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objects to be dynamically cre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s, ar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s, o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gets, both static and dynamically manipu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2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through network with participants at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ion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tworked Two-Way Present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79440" y="2322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2666880"/>
            <a:ext cx="94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esenter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2971800"/>
            <a:ext cx="42674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53080" y="266688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228600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312408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76920" y="335268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251460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502920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533412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4419720"/>
            <a:ext cx="1143000" cy="160020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4495680"/>
            <a:ext cx="6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5800" y="495288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487692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86200" y="533412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CII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inary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3505320"/>
            <a:ext cx="144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05320" y="411480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tte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3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efficiently and quickly construct complex symbol structures  (for math, logic, scientific symbols) by hand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4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quickly create widgets including dynamically manipulable 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1 (Original)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-based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full-screen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cp:revision>0</cp:revision>
  <dc:subject/>
  <dc:title>Networked Digital Whiteboard  with  Handwritten-Symbol Interpreter and  Dynamic-Display-Object Creator</dc:title>
</cp:coreProperties>
</file>