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E179-4138-4EE3-A478-8DB0219DD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6A61-8A0C-4E72-A09C-A4615603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7C02-7B14-4B2F-9729-26A329606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66C4-890B-405A-80D3-013891128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04AF-0CF7-42A1-BC0D-8174E5D0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8955-650D-480C-99A3-BDDA5905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9070-FE34-45D2-AA27-0AE5BB43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6F2F-E352-47BB-A5AA-8EBD0627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6AB5-675D-4600-865B-2A886742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A335-1BB5-430B-BCD7-2451054F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08F3-06B7-4A74-9B9C-B1DB2D31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49BE-28F2-4FC4-BF3F-7BD6C952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357" r="0" b="0"/>
          <a:stretch/>
        </p:blipFill>
        <p:spPr>
          <a:xfrm>
            <a:off x="0" y="4564080"/>
            <a:ext cx="1658880" cy="2293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41628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ahoma"/>
              </a:rPr>
              <a:t>June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46200" y="6416280"/>
            <a:ext cx="41752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Tahoma"/>
              </a:rPr>
              <a:t>Tcl/Tk’s Contribution to Satellite Operations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457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685800" cy="763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32360" y="645300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9BAE-8C83-4074-8917-6673F494F122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3080" y="641664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7229520" y="5877000"/>
            <a:ext cx="150012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6946" r="0" b="0"/>
          <a:stretch/>
        </p:blipFill>
        <p:spPr>
          <a:xfrm>
            <a:off x="0" y="476280"/>
            <a:ext cx="4846680" cy="6381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6732720" y="5734080"/>
            <a:ext cx="2146320" cy="63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042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Tcl/Tk’s Contribution to Satellite Operations 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11280" y="169992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en-GB" sz="32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European Tcl/Tk User Meet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6 June 200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artyn SMIT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oftware Engine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cl/Tk is used increasingly throughout the C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ools used through all phases of satellite production and ope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Agile programming helps to converge towards a functional too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SPACEBEL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1203480"/>
            <a:ext cx="7956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nded in 198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ocated in Brussels, Liege, Toulouse and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etn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in activitie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pace industry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atellite Flight softw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imulation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round Infrastructure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vironment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nvironmental monitoring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Water resource management system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isaster management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NES: French Space Agency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Large quantities of data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atellite Description Database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Telecommand, Telemetr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imulation outpu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ulti-Satellite Control Centr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rchive/Retriev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Extrac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Visualis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Why Choose TCL for the CNES ?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CL already used for Simulato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ts often require small tools quickl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indows platfor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mand line inconvenient -&gt; GU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 this combined lead us to choose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The Snowball Effect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tarted out with small scrip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Demonstrated the possibilities of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ore and more interest by exper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Requests for complete too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Production tools/environment create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wo complete operational CNES Produc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Plot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ahoma"/>
                <a:ea typeface="Tahoma"/>
              </a:rPr>
              <a:t>®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Decom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Decom: Packet Data Extracto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atellites generate binary packet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eed to convert into Human readable for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ow Experts to extract sets of parameters on their ow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centralised access to paramet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68360" y="4653000"/>
            <a:ext cx="4681440" cy="1211760"/>
            <a:chOff x="2268360" y="4653000"/>
            <a:chExt cx="4681440" cy="1211760"/>
          </a:xfrm>
        </p:grpSpPr>
        <p:sp>
          <p:nvSpPr>
            <p:cNvPr id="99" name=""/>
            <p:cNvSpPr/>
            <p:nvPr/>
          </p:nvSpPr>
          <p:spPr>
            <a:xfrm>
              <a:off x="2268360" y="4653000"/>
              <a:ext cx="468144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6560" y="47451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41080" y="4797360"/>
              <a:ext cx="4608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Star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Widgets,  Tile,  Treectrl,  Hugelist, 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536400"/>
            <a:ext cx="58561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Plot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ahoma"/>
              </a:rPr>
              <a:t>®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: 2-D Plotte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y a new plotter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ulti-Axes date plots with synchronis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abelled data displ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irect graph manipu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ver 200 users on multiple si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195640" y="4653000"/>
            <a:ext cx="4824000" cy="1211760"/>
            <a:chOff x="2195640" y="4653000"/>
            <a:chExt cx="4824000" cy="1211760"/>
          </a:xfrm>
        </p:grpSpPr>
        <p:sp>
          <p:nvSpPr>
            <p:cNvPr id="106" name=""/>
            <p:cNvSpPr/>
            <p:nvPr/>
          </p:nvSpPr>
          <p:spPr>
            <a:xfrm>
              <a:off x="2195640" y="4653000"/>
              <a:ext cx="482400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75360" y="4745160"/>
              <a:ext cx="18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70520" y="4797360"/>
              <a:ext cx="4749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Freewr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LT, BWidgets,  mkWidgets, Tablelist,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9134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3:15:33Z</dcterms:created>
  <dc:creator>Martyn Smith</dc:creator>
  <dc:description/>
  <cp:keywords>TCL Satellite Telemetry Simulation</cp:keywords>
  <dc:language>en-US</dc:language>
  <cp:lastModifiedBy>Martyn Smith</cp:lastModifiedBy>
  <dcterms:modified xsi:type="dcterms:W3CDTF">2008-06-04T20:57:42Z</dcterms:modified>
  <cp:revision>42</cp:revision>
  <dc:subject/>
  <dc:title>Tcl/Tk's Contribution to Satellite Operations</dc:title>
</cp:coreProperties>
</file>