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B9B0C-6667-4608-A8D8-8CC76FB3A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E9B13-6E80-42B8-9663-46317E8E9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B3963-2A38-4DDB-B31B-36C63A64B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9FA39-FC8B-4F32-BC6B-02B8ABBC6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57224-162A-4CD8-8E05-2D9CBE502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3D417-CC48-45DF-AED0-D4401559D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DFDE5-BD73-4A3A-BDBE-E0A0D25A6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12AEF-DD47-423F-B552-FBD51A9FE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96AA0-DD1D-4487-951A-321255AD1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277A3-1A7D-43BF-8419-BF7247DB0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B095E-C052-4E0D-9BE9-F16485E34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CF10D-E0BB-41D1-8F3C-3BE9E9E23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E47C6-45EC-43F3-A50B-B9CC075835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S with Tc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n Nijtma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uroTcl 2008, june 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:secs::s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:secs::set EQP {L {U1 5} {U2 1000}} \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[L {F  3.5} {B 45 46 47}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:secs::set EQP {U2 5 1000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:secs::forea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:secs::foreach v {L {U1 5} {U1 6}} {\…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:secs::foreach v {U1 5 6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quipment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array EQ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rray set EQP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3 45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oftware {L {A CONCP1} {A 4.433}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roc EQPconnect {} ……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roc EQPS&lt;num&gt;F&lt;num&gt; {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w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s.sourceforge.n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ume (www.hume.com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slib (japanese) ?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m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it started: automatic tes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S message protocol    host &lt;-&gt; equip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te storage in arr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S comma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ECS protoc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miconductor Equipment Communications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ssages over RS-232 or TCP/I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0-byte header followed by mess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quest/Rep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S message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143000" y="2666880"/>
            <a:ext cx="647712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n             dev     cmd     sub                id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666880" y="2666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81280" y="2666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419720" y="2666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257800" y="2666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143000" y="3352680"/>
            <a:ext cx="655308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 ……………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447920" y="4191120"/>
            <a:ext cx="3886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d odd:     requ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d even:   reply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bit:  reply expected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S mess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: bin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: ASC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1, U2, U4, U8, I1, I2, I4, I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4, F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362320" y="5410080"/>
            <a:ext cx="38098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mt   len      ………………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124080" y="5410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9880" y="5410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2819520"/>
            <a:ext cx="72388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 0 1 2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{this is a string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 {B 0 1 2 3} {A {this is a string}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2 100 2000 3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this is a st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1 1000 2000  -1     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I2 1000 2000 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:secs::S6F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oc S6F5 {sock dev cmd sub msg id}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::secs::write $sock $dev [expr {$cmd+1}] $sub [list B 0] $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:secs::wri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8284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:secs::write $sock $dev $cmd $msg $sub cb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c cb1 {sock dev cmd msg sub id} 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cmd1 …..;set msg1 …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:secs::write $sock $dev $cmd1 $msg1 $sub $cb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c cb2 {sock dev cmd msg sub id} 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cmd2 …..;set msg2 …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:secs::write $sock $dev $cmd2 $msg2 $sub $cb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09480" y="198108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:secs::ini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:secs::init host port array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t up conne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CIS</cp:lastModifiedBy>
  <dcterms:modified xsi:type="dcterms:W3CDTF">2008-06-07T05:51:42Z</dcterms:modified>
  <cp:revision>6</cp:revision>
  <dc:subject/>
  <dc:title>PowerPoint Presentation</dc:title>
</cp:coreProperties>
</file>