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06008"/>
        <c:axId val="18754576"/>
      </c:barChart>
      <c:catAx>
        <c:axId val="37906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54576"/>
        <c:crosses val="autoZero"/>
        <c:auto val="1"/>
        <c:lblAlgn val="ctr"/>
        <c:lblOffset val="100"/>
        <c:noMultiLvlLbl val="0"/>
      </c:catAx>
      <c:valAx>
        <c:axId val="18754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06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E2F-62B4-480E-B5F4-E08E86BD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4CD-9372-4C0F-8874-04A6167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9BD-D4E6-42FA-920E-983C4AD0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C4A-5B8A-438B-B885-5229DC84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45D-FBAE-40D9-B5C5-F407B57F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79C-CE77-4434-A8E1-84E49889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92E-DFC9-426A-8B71-900BB81F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3D1-8C8F-48B2-936C-6BE69965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394-2F52-44E8-B414-A936D0FE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C3B-81AC-4EC3-AF99-1748A6AA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231-5E29-4A23-B210-B68F444C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339-872E-4165-ACCE-078BA40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3C711-A3D7-4666-BD39-12E13961C4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