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39149"/>
        <c:axId val="53179971"/>
      </c:barChart>
      <c:catAx>
        <c:axId val="70139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79971"/>
        <c:crosses val="autoZero"/>
        <c:auto val="1"/>
        <c:lblAlgn val="ctr"/>
        <c:lblOffset val="100"/>
        <c:noMultiLvlLbl val="0"/>
      </c:catAx>
      <c:valAx>
        <c:axId val="53179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39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B47-3470-4BCE-8DDC-FA9CC050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A9D-7EBE-4BD0-863D-396C7D03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CEF-12A4-4B95-8AFD-27BFD962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B22-60CA-4341-8B89-5E0AFDA4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D49-654A-4395-82D9-26FD4FF2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0C3-F399-4B5B-A195-C3268B5D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F04-8E3F-425D-A129-E16034BD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FD6-6B28-42AF-B3AF-31545C0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2F6-3560-4801-8A3E-6CD9034A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A07-01F7-49EC-821D-9640D15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B73-DEF0-42E2-A9E2-80EDF9E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244-2945-47B3-9577-883B09F2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D1055-34CC-4C79-8126-D147D81B47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