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8428214-7203-40BA-BBAE-7906A8F16162}"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81CE9FC-AF0E-4DA1-96CE-AC90CACD799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F0A41B2-B5E4-402D-8546-C66921C4E9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84BAC5C-9AC7-4702-B63D-1B3D5BA0BA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62FE704-E60F-49C7-8C31-97D0692ABC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F00626A-CC19-46A1-87AF-A5B4CC20B7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2506765-B4DB-40BE-BF23-942B6284A13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69E2D62-8F6D-4C73-BDCC-15492643B91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02E66D5-9598-4B65-947F-A4E8BBBB446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F45197A-021D-45AC-A546-FF1625914FD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0276FD0-99E1-4FAC-A671-C03D4E96B21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C8D933A-4170-4A31-ACBC-E9809724735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2CA5045-6813-4A3C-9030-8D460764BB0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563A977-ADD6-4FB4-862F-3F5253A038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B0FCF4B-37B3-4062-BD59-1810436577D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B61DA6E-469F-46C9-B075-6FF79758517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ACD57CE-6F6C-4653-ABAC-97CA9651747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6CB5C6F-0134-4A4D-AA8F-BBFA97F5BC1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8005C62-2772-4E4D-947A-E934755445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B4EF33-DCEF-432D-ABC1-5FF0114254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CDC2ED-100F-4FD4-B7D1-41E36BA0B8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33C6F8-CD44-4F1D-B68D-1E8EE41857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4F59E6-3396-4F5A-83BB-F499279CD8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238C95-6055-4C62-94B1-01326E0622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CCAAD1-0773-4EF5-9564-ED40CD2FAB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BFE46F-5249-4060-BC30-469569DD3E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AC3C1-6DDA-4821-B89D-4BC0EB47D2C2}"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4A3E6-A32D-4D4C-8440-C8CBD4DCC103}"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9449C71-7ADF-4F7A-BC78-AA43BF222575}"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C2CAEB1-AF46-4323-8E51-3953938504FA}"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CC6E6C1-0EA7-4C22-B672-8ECEE706D15C}"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638B7B8-AA76-4F3F-B26A-7F5E336258E7}"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494FE14-A651-4A9A-8A96-72827F2E863A}"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ECB15A5-1080-4B3E-8215-789EBC201152}"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A0A953C-EA22-480B-88E6-12D208880738}"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ACEE377-F819-4D00-AF55-66B14EA5703B}"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FB36D23-E282-4359-9D4B-259979E5144F}"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FB89559-80EB-4EE5-8BB1-BFA60B7F89E8}"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1067109-23BC-4DFD-8805-E500DDC65108}"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2B7CA67-52D7-4FDC-8815-8D11E3442CEA}"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D081C8F-31A7-441B-8C9C-D083F4E9A740}"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411CE5F-B54C-4EDF-B46B-FC7C6C836305}"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F131E7C-04E3-4B28-B525-0EB97EEAA03F}"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FF36914-C797-4003-86C1-021FD28D7B5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A23EA28-6211-4943-952E-FBF35FF159E0}"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E6310FE-39CC-45CA-8F51-1E6809D847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713EB038-4DF8-48E5-940B-43409489C7AC}"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48BDA31-393E-4640-BEE2-A7DD03A3D673}"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0B2476A-68A4-44EE-98CD-29DFD98859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A889C1A-3EDF-46E4-99B7-3456AE9953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D5D8941-0B8F-4D4C-81AA-634801320D71}"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CB795A5-D8D8-45B9-AF77-F7121BB845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2940961-43C9-4A34-8D69-CD7BD63165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4968C92-C11A-4DE1-A486-DFBFAA2BCF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7C1266B-E802-4B65-95EB-8F90B13876CE}"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5DB9020-88B8-42E2-BBEA-D678A94CE7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F08F625-4733-47DF-90EC-2FF38D050C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63AFBEB-9062-4534-B480-39B68383ED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C5E1D2E-B221-4B83-9EA7-E70E339F36BB}"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DA64FB6-DC3E-4456-900E-A7300AE56D1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2366D8D-6F5E-408A-8401-B4586F77FCC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49D5320-B4D9-4429-9633-66999407F5D5}"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E1A90AD-1F24-4F9B-B478-E896BEA33A4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25087BB-6D5B-4717-9449-C8E9C8FA13F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4D946D4-68B9-444C-A5FC-ED6A25D4574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41FBB8C-6D2F-487C-9C51-284E0A5B299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6024D3E-AD1B-4FA2-8A5D-354F6816D09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882DD11-DCFA-4A31-94A0-113639DD5E9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87C057D-2952-4E39-83FD-024EE0B714F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02A016C-A05E-4BD8-8645-B56F453BE3FB}"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376E7A8-5B99-4415-BB86-DB024B35551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8560A15-CC72-4F94-93C3-C36B316B976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E2815EC-9189-4936-A687-4D88C0F1DDC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C19B188-B527-4020-A3AD-6FB173D4654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7C8D4B8-3C38-4E9D-9748-BEB0AFDE040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3587B74-5281-4D67-AE16-6E475F03E16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83C8919-2F9D-4D00-81F8-17A2D8B5392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BEA1A0A-1F29-406B-932A-1058C80DDC8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A600F1E-BBF3-40FA-9012-148E6BE4CF81}"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0CFA41F-9A5D-4027-945B-287BA6052158}"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851C0D5-2D4F-4DFC-B06B-5B27250F1EAF}"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102F31D-287F-4441-8FFC-F318A2BE382C}"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FB04B6B-02A6-42E3-9780-9010E9449107}"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2FE8354-F0A3-40FF-96F7-8093069D80EA}"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3972693-D9EF-4887-90AA-CCDCCAFB8F06}"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CC49B42-0737-4A4B-8AA9-BFDCB85768BF}"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26AE01C-606C-4C6A-BD61-C9254CA08D4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0573266-4E66-4FE2-9449-0B471AC3B799}"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11C4E43-9A28-4348-8AFD-0D8AD761551B}"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982859C-48B1-4293-BDC1-9E6BFF813564}"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C58F9B1-FE8C-4400-850A-4454491DEDD5}"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DF36628-DCAB-48C1-A0F9-79D14978C140}"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53FFFBA-7A40-445A-A5D6-44B238E007A0}"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F94DE78-F67A-4731-9EC6-576A3324E2FF}"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21067E2-3B65-40E1-9DD9-40D170822A04}"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BDF91F4-C12E-4471-9507-F8D27A44B709}"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0C89034-523E-43CC-A386-F2A2C0AF9375}"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B5C9297-292E-4D7C-8DE7-559F06D22639}"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1856186-FCFF-4A7A-B9E5-E810CD2771C9}"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AFBAD3E-F047-4456-A2EF-EC18CC1C0A50}"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B8702A9-8D1B-43D0-BE80-CBE71E97C099}"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9BC952A-1172-4824-AABE-48928468B212}"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913716F-BDE9-4D5E-8D7F-4DC450C3B54A}"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668264F-F14D-4E0A-8E2E-480FA23804A0}"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5F12B65-9C06-4D15-AD11-BB1182E70B82}"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267A580-8E3D-4470-88DB-8B6C5D78A2B9}"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F440D17-6B71-4A5C-A3D1-6FC2F1810F24}"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237AEE0-CA15-43E6-80BC-24CE424BFA18}"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E4EBF77-5EA1-4FE8-AEC3-5EB14C0BC94E}"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CC357C2-7B69-4316-9D41-E8584E25BA8A}"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AE0FBDE-83F0-4497-8DE8-C7C63325EED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90BF8C4-326D-4D74-92FC-050A021210F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B62B79B-18EE-4419-AA09-5E024C3BC62C}"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5DD7C87-B8CF-4E95-9BF0-B504B41F20FF}"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FA01AC9-2F94-438E-A6B4-1DC3283D2106}"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74C98CA-B347-48C2-BD3B-232ABB870CBA}"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888C0C4-A9D2-4760-B087-BBB8F5BC85F4}"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BE137DF-E378-4DDC-A0D7-0031D74CCDBD}"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687BB63-EAFA-4C71-ADDF-EA8074278F22}"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F8536BC-7D35-40A7-96B4-B2F4969298E4}"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8B3F606-292A-4C74-9C95-7135A407E09B}"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094D0CF-6B14-48E0-87F6-DE66959EA8E2}"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F169AED9-1CCB-4BDD-BFB8-DC572AE5F52E}"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79AB100-9929-45A4-AB44-51A09B5F5FC3}"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739B789-4A28-4A29-B1F4-042AEB8C115A}"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641D583-1EE7-4352-B89B-66EFEEF242CB}"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DA22307-C9CA-474C-BCB3-928654D7A34C}"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5B2C3F2-FCA0-4690-8FDE-43627EE6DCA2}"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FFE0CFB-3F15-47FC-8F3C-CB100DFBFF80}"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878280E-E843-46B8-91EC-5781EFAEC287}"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6F64EF1-C7C4-4FCB-8494-75A42F44D791}"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2E377E1-4C2F-4C1F-A10D-ABB9898EB736}"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C134A25-3389-45D5-870E-06AE21CDC41F}"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509F6E3-E666-4395-BB26-DBA4C5B31AC4}"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0CCDB5D7-18D9-4FBB-86AB-8DE631C88771}"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984EDAF-118A-4053-BC76-26A9F759238C}"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340383D-5CBC-456E-9C1A-00F9F338337E}"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3DAB4F2-394F-4035-AB60-F9C57253D2E9}"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5A2B6FD-A967-424A-B3ED-9927441771A2}"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A88BFC7-8493-4C8B-A9DA-0D0B179E4CAB}"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